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perché non basta solo F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e argomenti su stack? Ordine di valutazione 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a comporta la possibilità di avere argomenti variabil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 faa il pop argomen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77724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7600"/>
            <a:ext cx="77724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36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7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7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250236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36600"/>
            <a:ext cx="250236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36600"/>
            <a:ext cx="250236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7600"/>
            <a:ext cx="250236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7600"/>
            <a:ext cx="250236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7600"/>
            <a:ext cx="250236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37926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36600"/>
            <a:ext cx="37926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4680"/>
            <a:ext cx="8469360" cy="35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36600"/>
            <a:ext cx="37926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7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37926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36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7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36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7600"/>
            <a:ext cx="77724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77724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7600"/>
            <a:ext cx="77724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36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7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7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250236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36600"/>
            <a:ext cx="250236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36600"/>
            <a:ext cx="250236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7600"/>
            <a:ext cx="250236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7600"/>
            <a:ext cx="250236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7600"/>
            <a:ext cx="250236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37926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36600"/>
            <a:ext cx="37926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4680"/>
            <a:ext cx="8469360" cy="35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36600"/>
            <a:ext cx="37926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7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37926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36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7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36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36600"/>
            <a:ext cx="37926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7600"/>
            <a:ext cx="7772400" cy="25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9907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0"/>
            <a:ext cx="838044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cope_(programming)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atic_typing" TargetMode="External"/><Relationship Id="rId2" Type="http://schemas.openxmlformats.org/officeDocument/2006/relationships/hyperlink" Target="http://en.wikipedia.org/wiki/Dynamic_typing" TargetMode="Externa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Programming_language" TargetMode="External"/><Relationship Id="rId2" Type="http://schemas.openxmlformats.org/officeDocument/2006/relationships/hyperlink" Target="https://en.wikipedia.org/wiki/Google" TargetMode="External"/><Relationship Id="rId3" Type="http://schemas.openxmlformats.org/officeDocument/2006/relationships/hyperlink" Target="https://en.wikipedia.org/wiki/Rob_Pike" TargetMode="External"/><Relationship Id="rId4" Type="http://schemas.openxmlformats.org/officeDocument/2006/relationships/hyperlink" Target="https://en.wikipedia.org/wiki/Ken_Thompson" TargetMode="External"/><Relationship Id="rId5" Type="http://schemas.openxmlformats.org/officeDocument/2006/relationships/hyperlink" Target="https://en.wikipedia.org/wiki/Compiler" TargetMode="External"/><Relationship Id="rId6" Type="http://schemas.openxmlformats.org/officeDocument/2006/relationships/hyperlink" Target="https://en.wikipedia.org/wiki/Static_typing" TargetMode="External"/><Relationship Id="rId7" Type="http://schemas.openxmlformats.org/officeDocument/2006/relationships/hyperlink" Target="https://en.wikipedia.org/wiki/ALGOL" TargetMode="External"/><Relationship Id="rId8" Type="http://schemas.openxmlformats.org/officeDocument/2006/relationships/hyperlink" Target="https://en.wikipedia.org/wiki/C_(programming_language)" TargetMode="External"/><Relationship Id="rId9" Type="http://schemas.openxmlformats.org/officeDocument/2006/relationships/hyperlink" Target="https://en.wikipedia.org/wiki/Garbage_collection_(computer_science)" TargetMode="External"/><Relationship Id="rId10" Type="http://schemas.openxmlformats.org/officeDocument/2006/relationships/hyperlink" Target="https://en.wikipedia.org/wiki/Structural_type_system" TargetMode="External"/><Relationship Id="rId11" Type="http://schemas.openxmlformats.org/officeDocument/2006/relationships/hyperlink" Target="https://en.wikipedia.org/wiki/Memory_safety" TargetMode="External"/><Relationship Id="rId12" Type="http://schemas.openxmlformats.org/officeDocument/2006/relationships/hyperlink" Target="https://en.wikipedia.org/wiki/Communicating_sequential_processes" TargetMode="External"/><Relationship Id="rId13" Type="http://schemas.openxmlformats.org/officeDocument/2006/relationships/hyperlink" Target="https://en.wikipedia.org/wiki/Concurrent_programming" TargetMode="External"/><Relationship Id="rId1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Object-oriented_programming" TargetMode="External"/><Relationship Id="rId2" Type="http://schemas.openxmlformats.org/officeDocument/2006/relationships/hyperlink" Target="https://en.wikipedia.org/wiki/Functional_programming" TargetMode="External"/><Relationship Id="rId3" Type="http://schemas.openxmlformats.org/officeDocument/2006/relationships/hyperlink" Target="https://en.wikipedia.org/wiki/Scheme_(programming_language)" TargetMode="External"/><Relationship Id="rId4" Type="http://schemas.openxmlformats.org/officeDocument/2006/relationships/hyperlink" Target="https://en.wikipedia.org/wiki/Standard_ML" TargetMode="External"/><Relationship Id="rId5" Type="http://schemas.openxmlformats.org/officeDocument/2006/relationships/hyperlink" Target="https://en.wikipedia.org/wiki/Haskell_(programming_language)" TargetMode="External"/><Relationship Id="rId6" Type="http://schemas.openxmlformats.org/officeDocument/2006/relationships/hyperlink" Target="https://en.wikipedia.org/wiki/Type_inference" TargetMode="External"/><Relationship Id="rId7" Type="http://schemas.openxmlformats.org/officeDocument/2006/relationships/hyperlink" Target="https://en.wikipedia.org/wiki/Currying" TargetMode="External"/><Relationship Id="rId8" Type="http://schemas.openxmlformats.org/officeDocument/2006/relationships/hyperlink" Target="https://en.wikipedia.org/wiki/Type_inference" TargetMode="External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6560" y="1820880"/>
            <a:ext cx="694836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dvanced Programm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ames, Scopes and Bi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423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bjects lifetim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events in the life of an objec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153080" y="2133720"/>
            <a:ext cx="2762640" cy="448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ion of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156320" y="4602240"/>
            <a:ext cx="3151440" cy="448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truction of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148840" y="2697120"/>
            <a:ext cx="2748960" cy="448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ion of a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152440" y="3992400"/>
            <a:ext cx="3137400" cy="448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truction of a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6112080" y="3962520"/>
            <a:ext cx="2820600" cy="118044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gling refer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se two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9"/>
          <p:cNvSpPr/>
          <p:nvPr/>
        </p:nvSpPr>
        <p:spPr>
          <a:xfrm>
            <a:off x="5257800" y="419112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4920" bIns="34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0"/>
          <p:cNvSpPr/>
          <p:nvPr/>
        </p:nvSpPr>
        <p:spPr>
          <a:xfrm>
            <a:off x="4343400" y="4724280"/>
            <a:ext cx="1752480" cy="152640"/>
          </a:xfrm>
          <a:prstGeom prst="leftArrow">
            <a:avLst>
              <a:gd name="adj1" fmla="val 50000"/>
              <a:gd name="adj2" fmla="val 287028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4920" bIns="34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3"/>
          <p:cNvSpPr/>
          <p:nvPr/>
        </p:nvSpPr>
        <p:spPr>
          <a:xfrm rot="5400000">
            <a:off x="-1068120" y="3512160"/>
            <a:ext cx="3540240" cy="897120"/>
          </a:xfrm>
          <a:prstGeom prst="rightArrow">
            <a:avLst>
              <a:gd name="adj1" fmla="val 50000"/>
              <a:gd name="adj2" fmla="val 98656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executi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6"/>
          <p:cNvSpPr/>
          <p:nvPr/>
        </p:nvSpPr>
        <p:spPr>
          <a:xfrm rot="5400000">
            <a:off x="455760" y="3229200"/>
            <a:ext cx="2205000" cy="775440"/>
          </a:xfrm>
          <a:prstGeom prst="leftRightArrow">
            <a:avLst>
              <a:gd name="adj1" fmla="val 50000"/>
              <a:gd name="adj2" fmla="val 56608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life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8"/>
          <p:cNvSpPr/>
          <p:nvPr/>
        </p:nvSpPr>
        <p:spPr>
          <a:xfrm rot="5400000">
            <a:off x="3012120" y="3034080"/>
            <a:ext cx="990360" cy="10184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nding life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063960" y="5602320"/>
            <a:ext cx="3537000" cy="448920"/>
          </a:xfrm>
          <a:prstGeom prst="rect">
            <a:avLst/>
          </a:prstGeom>
          <a:solidFill>
            <a:srgbClr val="ffc000"/>
          </a:soli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Leak if forgo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Up Arrow 1"/>
          <p:cNvSpPr/>
          <p:nvPr/>
        </p:nvSpPr>
        <p:spPr>
          <a:xfrm>
            <a:off x="3521160" y="5118120"/>
            <a:ext cx="404640" cy="449280"/>
          </a:xfrm>
          <a:prstGeom prst="upArrow">
            <a:avLst>
              <a:gd name="adj1" fmla="val 50000"/>
              <a:gd name="adj2" fmla="val 49928"/>
            </a:avLst>
          </a:prstGeom>
          <a:solidFill>
            <a:srgbClr val="c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ynamic scope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should be attractive to be able to move the definition of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nth-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a more global context, where it can be shared by many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define (sum-powers a b n)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sum nth-power a b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define (product-powers a b n)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product nth-power a b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define (nth-power 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expt x n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ttempt to make this work is what motivated the development of dynamic binding 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ynamic scope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namically bound variables can be helpful in structuring large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simplify procedure calls by acting as implicit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a low-level procedu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pr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ed by the system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dure for printing numbers might reference a free variable calle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radi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specifies the base in which the number is to be pri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dures that call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pr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need not to know about this fe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84772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ynamic scope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66720" y="1420560"/>
            <a:ext cx="814248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other hand, a user might want to temporarily change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rad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statically bound language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radi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ould have to be a global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setting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radi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a new value, the user would have to explicitly reset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ynamic binding mechanism could accomplish this setting and resetting automatically, in a structured w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define print-in-new-radix number radi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print number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define (print fro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&lt; expressions that involve nprint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define (nprint numb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ad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.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Scope - Modu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ularization depends on information hi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s and subroutines can be used to hide information. However, this is not flexible enou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reason is that persistent data is usually needed to create abstraction. This can be addressed in some cases using statically allocated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omework 1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an implementation of malloc/f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mplementation should not use any extra memory than the block used for the heap itsel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t implementation of shared st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 a binary tre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out using the stack or other additional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4880" y="0"/>
            <a:ext cx="843912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Scope - Modules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455" name="Picture 3" descr="F03_06"/>
          <p:cNvPicPr/>
          <p:nvPr/>
        </p:nvPicPr>
        <p:blipFill>
          <a:blip r:embed="rId1"/>
          <a:stretch/>
        </p:blipFill>
        <p:spPr>
          <a:xfrm>
            <a:off x="304920" y="1716120"/>
            <a:ext cx="88390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Scope - Modules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modularization often requires a variety of operations on persistent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Scope - Modules (Cont.)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inside a module are visible to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inside can be hidden explicitly (using a keyword like private) or implicitly (objects are only visible outside if they are expor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me language objects outside need to be imported to be visible within the mo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Scope – Modules. Modula-2 examp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85440" y="1698480"/>
            <a:ext cx="38862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a,b: CARDINAL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M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a; EXPORT w,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u,v,w; CARDINAL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u; EXPORT x,y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x,y,z: CARDINAL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 x,u,y,z visible here 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 a,u,v,w,x,y visible here 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M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 a,b,w,x visible here 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4724280" y="1676520"/>
            <a:ext cx="38862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R a: CARDIN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N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PORT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R b: CARDIN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* only b visible here 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N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N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PORT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R c: CARDIN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* only c visible here 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N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N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PORT 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* b,c visible here 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N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4640" y="433440"/>
            <a:ext cx="7772400" cy="75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Example: object and binding creation/destruction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 foo { int x, y }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* z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 a = 1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/ stack alloc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 aFoo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/ stack alloc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oo.x = 7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 = &amp;aFo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-&gt;x = 9; (*z).x = 9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/ equivalent stat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/delete z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/ wr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-&gt;x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/ access a location no longer avail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ctor&lt;int&gt;  v = new Vector&lt;int&gt;(5); // Ja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/Vector&lt;int&gt; v1 = v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/ another binding for the v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 = null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/ after use or it will l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3" descr="F03_07"/>
          <p:cNvPicPr/>
          <p:nvPr/>
        </p:nvPicPr>
        <p:blipFill>
          <a:blip r:embed="rId1"/>
          <a:stretch/>
        </p:blipFill>
        <p:spPr>
          <a:xfrm>
            <a:off x="1523880" y="152280"/>
            <a:ext cx="58881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76080" y="-360"/>
            <a:ext cx="846756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dules as typ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465" name="Picture 3" descr="F03_10"/>
          <p:cNvPicPr/>
          <p:nvPr/>
        </p:nvPicPr>
        <p:blipFill>
          <a:blip r:embed="rId1"/>
          <a:stretch/>
        </p:blipFill>
        <p:spPr>
          <a:xfrm>
            <a:off x="1295280" y="1773360"/>
            <a:ext cx="64864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mbol Tab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 tables are used to keep track of scope and binding information about na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ymbol table is searched every time a name is encountered in the sourc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occur when a new name or new information about a name is discov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stract syntax tree will contain pointers to the symbol table rather than the actual names used for objects in the sourc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mbol Tables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ymbol table entry contai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ymbol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s category (scalar variable, array, constant, type, procedure, field name, parameter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ope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(a pointer to another symbol table ent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additional, category specific fields (e.g. rank and shape for array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keep symbol table records uniform, it may be convenient for some of the information about a name to be kept outside the table entry, with only a pointer to this information stored in the e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mbol Tables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ymbol table may contain the keywords at the beginning if the lexical scanner searches the symbol table for each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ly, the lexical scanner can identify keywords using a separate table or by creating a separate final state for each key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mbol Tables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important issues is handling static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mple solution is to create a symbol table for each scope and attach it to the node in the abstract syntax tree corresponding to the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ter native is to use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ddition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structure to keep track of the scope. This structure would resemble a stac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dure new_id(i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index=top to scope_marker(LL - 1) by 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id == symbol_table(additional(index)).name then error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 = new_symbol_table_index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mbol_table(k).name=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itional(top++) = 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dure old_id(i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index= top to 0 by 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id == symbol_table(additional(index)).name then return additional(inde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dure scope_entry 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ope_marker(LL++)=to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dure scope_exit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 = scope_marker(--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Group 43"/>
          <p:cNvGrpSpPr/>
          <p:nvPr/>
        </p:nvGrpSpPr>
        <p:grpSpPr>
          <a:xfrm>
            <a:off x="3995640" y="3576600"/>
            <a:ext cx="5149440" cy="3237480"/>
            <a:chOff x="3995640" y="3576600"/>
            <a:chExt cx="5149440" cy="3237480"/>
          </a:xfrm>
        </p:grpSpPr>
        <p:grpSp>
          <p:nvGrpSpPr>
            <p:cNvPr id="476" name="Group 37"/>
            <p:cNvGrpSpPr/>
            <p:nvPr/>
          </p:nvGrpSpPr>
          <p:grpSpPr>
            <a:xfrm>
              <a:off x="3995640" y="4567320"/>
              <a:ext cx="1436040" cy="1902960"/>
              <a:chOff x="3995640" y="4567320"/>
              <a:chExt cx="1436040" cy="1902960"/>
            </a:xfrm>
          </p:grpSpPr>
          <p:sp>
            <p:nvSpPr>
              <p:cNvPr id="477" name="Rectangle 32"/>
              <p:cNvSpPr/>
              <p:nvPr/>
            </p:nvSpPr>
            <p:spPr>
              <a:xfrm>
                <a:off x="3995640" y="4567320"/>
                <a:ext cx="1436040" cy="47592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34"/>
              <p:cNvSpPr/>
              <p:nvPr/>
            </p:nvSpPr>
            <p:spPr>
              <a:xfrm>
                <a:off x="3995640" y="5994360"/>
                <a:ext cx="1436040" cy="47592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35"/>
              <p:cNvSpPr/>
              <p:nvPr/>
            </p:nvSpPr>
            <p:spPr>
              <a:xfrm>
                <a:off x="3995640" y="5518440"/>
                <a:ext cx="1436040" cy="47592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Rectangle 36"/>
              <p:cNvSpPr/>
              <p:nvPr/>
            </p:nvSpPr>
            <p:spPr>
              <a:xfrm>
                <a:off x="3995640" y="5043240"/>
                <a:ext cx="1436040" cy="4752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Rectangle 4"/>
            <p:cNvSpPr/>
            <p:nvPr/>
          </p:nvSpPr>
          <p:spPr>
            <a:xfrm>
              <a:off x="5976720" y="3881520"/>
              <a:ext cx="609840" cy="30492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6194160" y="5023080"/>
              <a:ext cx="174960" cy="46008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6"/>
            <p:cNvSpPr/>
            <p:nvPr/>
          </p:nvSpPr>
          <p:spPr>
            <a:xfrm>
              <a:off x="5976720" y="4795920"/>
              <a:ext cx="609840" cy="30492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7"/>
            <p:cNvSpPr/>
            <p:nvPr/>
          </p:nvSpPr>
          <p:spPr>
            <a:xfrm>
              <a:off x="5976720" y="4491000"/>
              <a:ext cx="609840" cy="30492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"/>
            <p:cNvSpPr/>
            <p:nvPr/>
          </p:nvSpPr>
          <p:spPr>
            <a:xfrm>
              <a:off x="5976720" y="4186440"/>
              <a:ext cx="609840" cy="30456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5062320" y="6091200"/>
              <a:ext cx="2908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11"/>
            <p:cNvSpPr/>
            <p:nvPr/>
          </p:nvSpPr>
          <p:spPr>
            <a:xfrm>
              <a:off x="5062320" y="5176800"/>
              <a:ext cx="2815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13"/>
            <p:cNvSpPr/>
            <p:nvPr/>
          </p:nvSpPr>
          <p:spPr>
            <a:xfrm>
              <a:off x="5062320" y="4643640"/>
              <a:ext cx="2908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Text Box 14"/>
            <p:cNvSpPr/>
            <p:nvPr/>
          </p:nvSpPr>
          <p:spPr>
            <a:xfrm>
              <a:off x="5062320" y="5634000"/>
              <a:ext cx="2815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15"/>
            <p:cNvSpPr/>
            <p:nvPr/>
          </p:nvSpPr>
          <p:spPr>
            <a:xfrm>
              <a:off x="5901840" y="5457960"/>
              <a:ext cx="77220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di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16"/>
            <p:cNvSpPr/>
            <p:nvPr/>
          </p:nvSpPr>
          <p:spPr>
            <a:xfrm>
              <a:off x="7043760" y="4872240"/>
              <a:ext cx="685800" cy="30456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17"/>
            <p:cNvSpPr/>
            <p:nvPr/>
          </p:nvSpPr>
          <p:spPr>
            <a:xfrm>
              <a:off x="7043760" y="5176800"/>
              <a:ext cx="685800" cy="30492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8"/>
            <p:cNvSpPr/>
            <p:nvPr/>
          </p:nvSpPr>
          <p:spPr>
            <a:xfrm>
              <a:off x="7043760" y="4567320"/>
              <a:ext cx="685800" cy="30492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4" name="AutoShape 19"/>
            <p:cNvCxnSpPr>
              <a:stCxn id="492" idx="1"/>
              <a:endCxn id="482" idx="3"/>
            </p:cNvCxnSpPr>
            <p:nvPr/>
          </p:nvCxnSpPr>
          <p:spPr>
            <a:xfrm rot="10800000">
              <a:off x="6585840" y="5253120"/>
              <a:ext cx="457920" cy="7668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AutoShape 20"/>
            <p:cNvCxnSpPr>
              <a:stCxn id="491" idx="1"/>
              <a:endCxn id="484" idx="3"/>
            </p:cNvCxnSpPr>
            <p:nvPr/>
          </p:nvCxnSpPr>
          <p:spPr>
            <a:xfrm rot="10800000">
              <a:off x="6585840" y="4642920"/>
              <a:ext cx="457920" cy="381600"/>
            </a:xfrm>
            <a:prstGeom prst="curvedConnector5">
              <a:avLst>
                <a:gd name="adj1" fmla="val 49960"/>
                <a:gd name="adj2" fmla="val 49952"/>
                <a:gd name="adj3" fmla="val 4996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6" name="Text Box 21"/>
            <p:cNvSpPr/>
            <p:nvPr/>
          </p:nvSpPr>
          <p:spPr>
            <a:xfrm>
              <a:off x="7271280" y="5176800"/>
              <a:ext cx="2527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22"/>
            <p:cNvSpPr/>
            <p:nvPr/>
          </p:nvSpPr>
          <p:spPr>
            <a:xfrm>
              <a:off x="7271280" y="4872240"/>
              <a:ext cx="2527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3"/>
            <p:cNvSpPr/>
            <p:nvPr/>
          </p:nvSpPr>
          <p:spPr>
            <a:xfrm>
              <a:off x="6893280" y="5558040"/>
              <a:ext cx="10144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cope_mar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24"/>
            <p:cNvSpPr/>
            <p:nvPr/>
          </p:nvSpPr>
          <p:spPr>
            <a:xfrm>
              <a:off x="7500960" y="3576600"/>
              <a:ext cx="685800" cy="30492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25"/>
            <p:cNvSpPr/>
            <p:nvPr/>
          </p:nvSpPr>
          <p:spPr>
            <a:xfrm>
              <a:off x="7728480" y="3586320"/>
              <a:ext cx="2527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6"/>
            <p:cNvSpPr/>
            <p:nvPr/>
          </p:nvSpPr>
          <p:spPr>
            <a:xfrm>
              <a:off x="8334000" y="3694320"/>
              <a:ext cx="3578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" name="AutoShape 27"/>
            <p:cNvCxnSpPr>
              <a:stCxn id="499" idx="1"/>
              <a:endCxn id="481" idx="3"/>
            </p:cNvCxnSpPr>
            <p:nvPr/>
          </p:nvCxnSpPr>
          <p:spPr>
            <a:xfrm flipV="1" rot="10800000">
              <a:off x="6585840" y="3728880"/>
              <a:ext cx="915120" cy="305280"/>
            </a:xfrm>
            <a:prstGeom prst="curvedConnector5">
              <a:avLst>
                <a:gd name="adj1" fmla="val 49980"/>
                <a:gd name="adj2" fmla="val 49940"/>
                <a:gd name="adj3" fmla="val 4998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3" name="Rectangle 28"/>
            <p:cNvSpPr/>
            <p:nvPr/>
          </p:nvSpPr>
          <p:spPr>
            <a:xfrm>
              <a:off x="8110440" y="4567320"/>
              <a:ext cx="685800" cy="30492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 Box 29"/>
            <p:cNvSpPr/>
            <p:nvPr/>
          </p:nvSpPr>
          <p:spPr>
            <a:xfrm>
              <a:off x="8338320" y="4576680"/>
              <a:ext cx="2527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 Box 30"/>
            <p:cNvSpPr/>
            <p:nvPr/>
          </p:nvSpPr>
          <p:spPr>
            <a:xfrm>
              <a:off x="8796600" y="4567320"/>
              <a:ext cx="3484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6" name="AutoShape 31"/>
            <p:cNvCxnSpPr>
              <a:stCxn id="503" idx="1"/>
              <a:endCxn id="493" idx="3"/>
            </p:cNvCxnSpPr>
            <p:nvPr/>
          </p:nvCxnSpPr>
          <p:spPr>
            <a:xfrm flipH="1" flipV="1">
              <a:off x="7729200" y="4718880"/>
              <a:ext cx="3816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7" name="Text Box 38"/>
            <p:cNvSpPr/>
            <p:nvPr/>
          </p:nvSpPr>
          <p:spPr>
            <a:xfrm>
              <a:off x="4148640" y="6548400"/>
              <a:ext cx="9460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mbol 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39"/>
            <p:cNvSpPr/>
            <p:nvPr/>
          </p:nvSpPr>
          <p:spPr>
            <a:xfrm flipH="1">
              <a:off x="5443200" y="433872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40"/>
            <p:cNvSpPr/>
            <p:nvPr/>
          </p:nvSpPr>
          <p:spPr>
            <a:xfrm flipH="1">
              <a:off x="5443200" y="4643640"/>
              <a:ext cx="53316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41"/>
            <p:cNvSpPr/>
            <p:nvPr/>
          </p:nvSpPr>
          <p:spPr>
            <a:xfrm flipH="1">
              <a:off x="5672160" y="4948200"/>
              <a:ext cx="3045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42"/>
            <p:cNvSpPr/>
            <p:nvPr/>
          </p:nvSpPr>
          <p:spPr>
            <a:xfrm flipH="1">
              <a:off x="5747760" y="5253120"/>
              <a:ext cx="22860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mbol Tables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440" y="1600200"/>
            <a:ext cx="807732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hash table can be added to the previous data structure to accelerate the sear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s with the same name are linked from top to bott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start at the entry of the hash table and proceeds through the linked list until the end of the list is reached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ld_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r until the link list refers to an element below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ope_marker(LL - 1) (new_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1120" y="0"/>
            <a:ext cx="84628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mbol Tables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0760" y="1599840"/>
            <a:ext cx="830556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pproach does not work in som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of Pascal and Modula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= RECORD day: [1..31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: mont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r: CARDI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1: Dat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d1 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y:=10; mo:=Sep; yr:=198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equivalent 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1.day:=10; d1.mo:=Sep; d1.yr:=198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63120" y="-360"/>
            <a:ext cx="848052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mbol Tab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517" name="Picture 3" descr="F03_13"/>
          <p:cNvPicPr/>
          <p:nvPr/>
        </p:nvPicPr>
        <p:blipFill>
          <a:blip r:embed="rId1"/>
          <a:stretch/>
        </p:blipFill>
        <p:spPr>
          <a:xfrm>
            <a:off x="1523880" y="1125360"/>
            <a:ext cx="62485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578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orage Managem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storage allocation mech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c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65280" y="-360"/>
            <a:ext cx="847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mbol Tables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519" name="Picture 3" descr="F03_14"/>
          <p:cNvPicPr/>
          <p:nvPr/>
        </p:nvPicPr>
        <p:blipFill>
          <a:blip r:embed="rId1"/>
          <a:stretch/>
        </p:blipFill>
        <p:spPr>
          <a:xfrm>
            <a:off x="304920" y="838080"/>
            <a:ext cx="4674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96880" y="-36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ssociation Lists and Central Reference Tab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521" name="Picture 3" descr="F03_15"/>
          <p:cNvPicPr/>
          <p:nvPr/>
        </p:nvPicPr>
        <p:blipFill>
          <a:blip r:embed="rId1"/>
          <a:stretch/>
        </p:blipFill>
        <p:spPr>
          <a:xfrm>
            <a:off x="4325760" y="993600"/>
            <a:ext cx="4133880" cy="58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134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The binding of referencing environments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allow bin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referencing environment of a routine is not created until the subroutine is actually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ep bin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program binds the environment at the time the subroutine is passed as a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ep binding is implemented by creating an explicit representation of a referencing environment and bundling it together with a reference to the subrout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pSp>
        <p:nvGrpSpPr>
          <p:cNvPr id="525" name="Group 6"/>
          <p:cNvGrpSpPr/>
          <p:nvPr/>
        </p:nvGrpSpPr>
        <p:grpSpPr>
          <a:xfrm>
            <a:off x="7340760" y="5584680"/>
            <a:ext cx="685800" cy="685800"/>
            <a:chOff x="7340760" y="5584680"/>
            <a:chExt cx="685800" cy="685800"/>
          </a:xfrm>
        </p:grpSpPr>
        <p:sp>
          <p:nvSpPr>
            <p:cNvPr id="526" name="Rectangle 7"/>
            <p:cNvSpPr/>
            <p:nvPr/>
          </p:nvSpPr>
          <p:spPr>
            <a:xfrm>
              <a:off x="7340760" y="5584680"/>
              <a:ext cx="685800" cy="68580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8"/>
            <p:cNvSpPr/>
            <p:nvPr/>
          </p:nvSpPr>
          <p:spPr>
            <a:xfrm>
              <a:off x="7390800" y="5793840"/>
              <a:ext cx="5695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9"/>
          <p:cNvGrpSpPr/>
          <p:nvPr/>
        </p:nvGrpSpPr>
        <p:grpSpPr>
          <a:xfrm>
            <a:off x="7340760" y="4898880"/>
            <a:ext cx="685800" cy="685800"/>
            <a:chOff x="7340760" y="4898880"/>
            <a:chExt cx="685800" cy="685800"/>
          </a:xfrm>
        </p:grpSpPr>
        <p:sp>
          <p:nvSpPr>
            <p:cNvPr id="529" name="Rectangle 10"/>
            <p:cNvSpPr/>
            <p:nvPr/>
          </p:nvSpPr>
          <p:spPr>
            <a:xfrm>
              <a:off x="7340760" y="4898880"/>
              <a:ext cx="685800" cy="68580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11"/>
            <p:cNvSpPr/>
            <p:nvPr/>
          </p:nvSpPr>
          <p:spPr>
            <a:xfrm>
              <a:off x="7392600" y="5108040"/>
              <a:ext cx="5817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Group 12"/>
          <p:cNvGrpSpPr/>
          <p:nvPr/>
        </p:nvGrpSpPr>
        <p:grpSpPr>
          <a:xfrm>
            <a:off x="7340760" y="4441680"/>
            <a:ext cx="685800" cy="499320"/>
            <a:chOff x="7340760" y="4441680"/>
            <a:chExt cx="685800" cy="499320"/>
          </a:xfrm>
        </p:grpSpPr>
        <p:sp>
          <p:nvSpPr>
            <p:cNvPr id="532" name="Rectangle 13"/>
            <p:cNvSpPr/>
            <p:nvPr/>
          </p:nvSpPr>
          <p:spPr>
            <a:xfrm>
              <a:off x="7340760" y="4441680"/>
              <a:ext cx="685800" cy="45720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14"/>
            <p:cNvSpPr/>
            <p:nvPr/>
          </p:nvSpPr>
          <p:spPr>
            <a:xfrm>
              <a:off x="7392600" y="4581000"/>
              <a:ext cx="5817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Group 15"/>
          <p:cNvGrpSpPr/>
          <p:nvPr/>
        </p:nvGrpSpPr>
        <p:grpSpPr>
          <a:xfrm>
            <a:off x="7340760" y="3832200"/>
            <a:ext cx="685800" cy="609480"/>
            <a:chOff x="7340760" y="3832200"/>
            <a:chExt cx="685800" cy="609480"/>
          </a:xfrm>
        </p:grpSpPr>
        <p:sp>
          <p:nvSpPr>
            <p:cNvPr id="535" name="Rectangle 16"/>
            <p:cNvSpPr/>
            <p:nvPr/>
          </p:nvSpPr>
          <p:spPr>
            <a:xfrm>
              <a:off x="7340760" y="3832200"/>
              <a:ext cx="685800" cy="60948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17"/>
            <p:cNvSpPr/>
            <p:nvPr/>
          </p:nvSpPr>
          <p:spPr>
            <a:xfrm>
              <a:off x="7392600" y="4017960"/>
              <a:ext cx="5817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Group 18"/>
          <p:cNvGrpSpPr/>
          <p:nvPr/>
        </p:nvGrpSpPr>
        <p:grpSpPr>
          <a:xfrm>
            <a:off x="7340760" y="2994120"/>
            <a:ext cx="685800" cy="838080"/>
            <a:chOff x="7340760" y="2994120"/>
            <a:chExt cx="685800" cy="838080"/>
          </a:xfrm>
        </p:grpSpPr>
        <p:sp>
          <p:nvSpPr>
            <p:cNvPr id="538" name="Rectangle 19"/>
            <p:cNvSpPr/>
            <p:nvPr/>
          </p:nvSpPr>
          <p:spPr>
            <a:xfrm>
              <a:off x="7340760" y="2994120"/>
              <a:ext cx="685800" cy="83808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Text Box 20"/>
            <p:cNvSpPr/>
            <p:nvPr/>
          </p:nvSpPr>
          <p:spPr>
            <a:xfrm>
              <a:off x="7390800" y="3249720"/>
              <a:ext cx="5695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Group 21"/>
          <p:cNvGrpSpPr/>
          <p:nvPr/>
        </p:nvGrpSpPr>
        <p:grpSpPr>
          <a:xfrm>
            <a:off x="7340760" y="2308320"/>
            <a:ext cx="685800" cy="685800"/>
            <a:chOff x="7340760" y="2308320"/>
            <a:chExt cx="685800" cy="685800"/>
          </a:xfrm>
        </p:grpSpPr>
        <p:sp>
          <p:nvSpPr>
            <p:cNvPr id="541" name="Rectangle 22"/>
            <p:cNvSpPr/>
            <p:nvPr/>
          </p:nvSpPr>
          <p:spPr>
            <a:xfrm>
              <a:off x="7340760" y="2308320"/>
              <a:ext cx="685800" cy="685800"/>
            </a:xfrm>
            <a:prstGeom prst="rect">
              <a:avLst/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23"/>
            <p:cNvSpPr/>
            <p:nvPr/>
          </p:nvSpPr>
          <p:spPr>
            <a:xfrm>
              <a:off x="7390800" y="2517480"/>
              <a:ext cx="5695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3" name="AutoShape 25"/>
          <p:cNvCxnSpPr>
            <a:stCxn id="541" idx="1"/>
            <a:endCxn id="526" idx="1"/>
          </p:cNvCxnSpPr>
          <p:nvPr/>
        </p:nvCxnSpPr>
        <p:spPr>
          <a:xfrm flipH="1" flipV="1" rot="10800000">
            <a:off x="7340400" y="2650680"/>
            <a:ext cx="2160" cy="327744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AutoShape 26"/>
          <p:cNvCxnSpPr>
            <a:stCxn id="538" idx="1"/>
            <a:endCxn id="530" idx="1"/>
          </p:cNvCxnSpPr>
          <p:nvPr/>
        </p:nvCxnSpPr>
        <p:spPr>
          <a:xfrm flipH="1" flipV="1" rot="10800000">
            <a:off x="7340400" y="3412800"/>
            <a:ext cx="40320" cy="1859760"/>
          </a:xfrm>
          <a:prstGeom prst="curvedConnector5">
            <a:avLst>
              <a:gd name="adj1" fmla="val -575675"/>
              <a:gd name="adj2" fmla="val 49990"/>
              <a:gd name="adj3" fmla="val -57567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AutoShape 27"/>
          <p:cNvCxnSpPr>
            <a:stCxn id="536" idx="1"/>
            <a:endCxn id="532" idx="1"/>
          </p:cNvCxnSpPr>
          <p:nvPr/>
        </p:nvCxnSpPr>
        <p:spPr>
          <a:xfrm flipV="1" rot="10800000">
            <a:off x="7340040" y="4181040"/>
            <a:ext cx="40320" cy="489600"/>
          </a:xfrm>
          <a:prstGeom prst="curvedConnector5">
            <a:avLst>
              <a:gd name="adj1" fmla="val 675675"/>
              <a:gd name="adj2" fmla="val 49963"/>
              <a:gd name="adj3" fmla="val 67567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AutoShape 28"/>
          <p:cNvCxnSpPr>
            <a:stCxn id="533" idx="1"/>
            <a:endCxn id="529" idx="1"/>
          </p:cNvCxnSpPr>
          <p:nvPr/>
        </p:nvCxnSpPr>
        <p:spPr>
          <a:xfrm flipV="1" rot="10800000">
            <a:off x="7340040" y="4744800"/>
            <a:ext cx="40320" cy="497520"/>
          </a:xfrm>
          <a:prstGeom prst="curvedConnector5">
            <a:avLst>
              <a:gd name="adj1" fmla="val 675675"/>
              <a:gd name="adj2" fmla="val 49963"/>
              <a:gd name="adj3" fmla="val 67567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Text Box 29"/>
          <p:cNvSpPr/>
          <p:nvPr/>
        </p:nvSpPr>
        <p:spPr>
          <a:xfrm>
            <a:off x="2085840" y="1698480"/>
            <a:ext cx="27230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REAL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/* B1 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* B2 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* B3 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P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P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X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30"/>
          <p:cNvSpPr/>
          <p:nvPr/>
        </p:nvSpPr>
        <p:spPr>
          <a:xfrm>
            <a:off x="2158920" y="1698480"/>
            <a:ext cx="2667240" cy="472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1"/>
          <p:cNvSpPr/>
          <p:nvPr/>
        </p:nvSpPr>
        <p:spPr>
          <a:xfrm>
            <a:off x="2540160" y="2232000"/>
            <a:ext cx="2286000" cy="396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2"/>
          <p:cNvSpPr/>
          <p:nvPr/>
        </p:nvSpPr>
        <p:spPr>
          <a:xfrm>
            <a:off x="2844720" y="2460600"/>
            <a:ext cx="1981440" cy="22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3301920" y="3451320"/>
            <a:ext cx="152424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34"/>
          <p:cNvSpPr/>
          <p:nvPr/>
        </p:nvSpPr>
        <p:spPr>
          <a:xfrm>
            <a:off x="3301920" y="2689200"/>
            <a:ext cx="15242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2844720" y="4670280"/>
            <a:ext cx="198144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4" name="AutoShape 37"/>
          <p:cNvCxnSpPr>
            <a:stCxn id="541" idx="3"/>
            <a:endCxn id="538" idx="3"/>
          </p:cNvCxnSpPr>
          <p:nvPr/>
        </p:nvCxnSpPr>
        <p:spPr>
          <a:xfrm>
            <a:off x="8026560" y="2650680"/>
            <a:ext cx="2160" cy="7628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AutoShape 38"/>
          <p:cNvCxnSpPr/>
          <p:nvPr/>
        </p:nvCxnSpPr>
        <p:spPr>
          <a:xfrm>
            <a:off x="8026560" y="3451320"/>
            <a:ext cx="2160" cy="762480"/>
          </a:xfrm>
          <a:prstGeom prst="curvedConnector5">
            <a:avLst>
              <a:gd name="adj1" fmla="val 14400000"/>
              <a:gd name="adj2" fmla="val 49976"/>
              <a:gd name="adj3" fmla="val 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AutoShape 39"/>
          <p:cNvCxnSpPr>
            <a:stCxn id="536" idx="3"/>
            <a:endCxn id="532" idx="3"/>
          </p:cNvCxnSpPr>
          <p:nvPr/>
        </p:nvCxnSpPr>
        <p:spPr>
          <a:xfrm>
            <a:off x="7986240" y="4181400"/>
            <a:ext cx="40680" cy="489600"/>
          </a:xfrm>
          <a:prstGeom prst="curvedConnector5">
            <a:avLst>
              <a:gd name="adj1" fmla="val 675892"/>
              <a:gd name="adj2" fmla="val 49963"/>
              <a:gd name="adj3" fmla="val 67589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AutoShape 40"/>
          <p:cNvCxnSpPr>
            <a:stCxn id="529" idx="3"/>
            <a:endCxn id="526" idx="3"/>
          </p:cNvCxnSpPr>
          <p:nvPr/>
        </p:nvCxnSpPr>
        <p:spPr>
          <a:xfrm>
            <a:off x="8026560" y="5241600"/>
            <a:ext cx="2160" cy="6865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AutoShape 41"/>
          <p:cNvCxnSpPr>
            <a:stCxn id="532" idx="3"/>
            <a:endCxn id="529" idx="3"/>
          </p:cNvCxnSpPr>
          <p:nvPr/>
        </p:nvCxnSpPr>
        <p:spPr>
          <a:xfrm>
            <a:off x="8026560" y="4670280"/>
            <a:ext cx="2160" cy="572400"/>
          </a:xfrm>
          <a:prstGeom prst="curvedConnector5">
            <a:avLst>
              <a:gd name="adj1" fmla="val 14400000"/>
              <a:gd name="adj2" fmla="val 49968"/>
              <a:gd name="adj3" fmla="val 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9" name="Rectangle 43"/>
          <p:cNvSpPr/>
          <p:nvPr/>
        </p:nvSpPr>
        <p:spPr>
          <a:xfrm>
            <a:off x="7346520" y="3076200"/>
            <a:ext cx="324360" cy="2354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AutoShape 45"/>
          <p:cNvCxnSpPr>
            <a:stCxn id="559" idx="1"/>
            <a:endCxn id="532" idx="1"/>
          </p:cNvCxnSpPr>
          <p:nvPr/>
        </p:nvCxnSpPr>
        <p:spPr>
          <a:xfrm flipH="1" flipV="1" rot="10800000">
            <a:off x="7340400" y="3192840"/>
            <a:ext cx="2160" cy="147708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allo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4280" y="24876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Allo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ifest, declared (parameter variables in Fortran) or identified by the compi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identified as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C can be a function of non constants and therefore cannot be stat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 tables generated by the compiler for debugging and other purp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: static variab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glob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increment 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c int count = 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count ++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(int x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uble count = 3.14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ORTRAN COMM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mension x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/group1/ x, y,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4280" y="24876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Allocation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absence of recursion, all variables can be stat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can be statically alloca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guments and return values (or their addresses). Allocation can be in processor registers rather than in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ora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kkeeping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add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ved regis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bugg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 [x in loc 37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+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: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    [x in loc 345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retLoc in loc 346  = w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+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: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f(int x)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(x == 0) return 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z = 2 * x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/return z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g(z, z) * z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g(int x, int y)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w = x * 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f(x) * w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4280" y="248760"/>
            <a:ext cx="377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inding Tim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in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program element to a particular property is the choice of the property from a set of possible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ime during program formulation or processing when this choice is made i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inding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many classes of bindings in programming languages as well as many different binding ti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d within the concepts of binding and binding times are the properties of program elements that are determined by the definition of the language or its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4280" y="248760"/>
            <a:ext cx="652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Allocation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37" name="Picture 3" descr="F03"/>
          <p:cNvPicPr/>
          <p:nvPr/>
        </p:nvPicPr>
        <p:blipFill>
          <a:blip r:embed="rId1"/>
          <a:stretch/>
        </p:blipFill>
        <p:spPr>
          <a:xfrm>
            <a:off x="2085840" y="1593720"/>
            <a:ext cx="66628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ck allo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ck-based Allo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ed when language permits recu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ful in languages without recursion because it can save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t function invoked will be the first to ret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s allocated in the function are not referenced outside the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se assumptions do not ho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ck-based Allo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ubroutine invocation creates a frame or activation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g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or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kkeeping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ck mainta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ing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pi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mplementation: Stack Fram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84708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ck-based Allocation Schem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47" name="Picture 4" descr="F03"/>
          <p:cNvPicPr/>
          <p:nvPr/>
        </p:nvPicPr>
        <p:blipFill>
          <a:blip r:embed="rId1"/>
          <a:stretch/>
        </p:blipFill>
        <p:spPr>
          <a:xfrm>
            <a:off x="1258920" y="1619280"/>
            <a:ext cx="68421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NU MIP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49" name="Picture 5" descr="F08"/>
          <p:cNvPicPr/>
          <p:nvPr/>
        </p:nvPicPr>
        <p:blipFill>
          <a:blip r:embed="rId1"/>
          <a:stretch/>
        </p:blipFill>
        <p:spPr>
          <a:xfrm>
            <a:off x="1258920" y="1413000"/>
            <a:ext cx="717696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cc MIP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51" name="Picture 10" descr="F08"/>
          <p:cNvPicPr/>
          <p:nvPr/>
        </p:nvPicPr>
        <p:blipFill>
          <a:blip r:embed="rId1"/>
          <a:stretch/>
        </p:blipFill>
        <p:spPr>
          <a:xfrm>
            <a:off x="1933560" y="1492200"/>
            <a:ext cx="63835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cc x86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211640" y="5734080"/>
            <a:ext cx="1512720" cy="79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18"/>
          <p:cNvGrpSpPr/>
          <p:nvPr/>
        </p:nvGrpSpPr>
        <p:grpSpPr>
          <a:xfrm>
            <a:off x="3132000" y="5734080"/>
            <a:ext cx="1079640" cy="216000"/>
            <a:chOff x="3132000" y="5734080"/>
            <a:chExt cx="1079640" cy="216000"/>
          </a:xfrm>
        </p:grpSpPr>
        <p:sp>
          <p:nvSpPr>
            <p:cNvPr id="155" name="Text Box 6"/>
            <p:cNvSpPr/>
            <p:nvPr/>
          </p:nvSpPr>
          <p:spPr>
            <a:xfrm>
              <a:off x="3132000" y="5734080"/>
              <a:ext cx="360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3564000" y="5877000"/>
              <a:ext cx="6476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3059280" y="6237360"/>
            <a:ext cx="1152360" cy="216000"/>
            <a:chOff x="3059280" y="6237360"/>
            <a:chExt cx="1152360" cy="216000"/>
          </a:xfrm>
        </p:grpSpPr>
        <p:sp>
          <p:nvSpPr>
            <p:cNvPr id="158" name="Text Box 8"/>
            <p:cNvSpPr/>
            <p:nvPr/>
          </p:nvSpPr>
          <p:spPr>
            <a:xfrm>
              <a:off x="3059280" y="6237360"/>
              <a:ext cx="360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9"/>
            <p:cNvSpPr/>
            <p:nvPr/>
          </p:nvSpPr>
          <p:spPr>
            <a:xfrm>
              <a:off x="3564000" y="6381720"/>
              <a:ext cx="6476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11"/>
          <p:cNvSpPr/>
          <p:nvPr/>
        </p:nvSpPr>
        <p:spPr>
          <a:xfrm>
            <a:off x="4211640" y="4508640"/>
            <a:ext cx="1512720" cy="12240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4211640" y="4292640"/>
            <a:ext cx="1512720" cy="2160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4211640" y="4076640"/>
            <a:ext cx="1512720" cy="2160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211640" y="2205000"/>
            <a:ext cx="1512720" cy="1871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m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6419880" y="2679840"/>
            <a:ext cx="254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stack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Straight Arrow Connector 5"/>
          <p:cNvCxnSpPr/>
          <p:nvPr/>
        </p:nvCxnSpPr>
        <p:spPr>
          <a:xfrm flipV="1">
            <a:off x="6409800" y="2252160"/>
            <a:ext cx="10440" cy="28029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509 L 0.00052 -0.19444 E">
                                      <p:cBhvr>
                                        <p:cTn id="8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19444 L 0.00052 -0.24676 E">
                                      <p:cBhvr>
                                        <p:cTn id="16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1065 L 5.55556E-007 -0.33079 E">
                                      <p:cBhvr>
                                        <p:cTn id="1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24676 L 0.00052 -0.52778 E">
                                      <p:cBhvr>
                                        <p:cTn id="2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: x86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440" y="1698480"/>
            <a:ext cx="39574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foo(int x, int 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y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716360" y="1844640"/>
            <a:ext cx="395784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ebp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esp,%e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x8(%ebp),%e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xc(%ebp),%e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ebp,%es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ebp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487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inding Time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ding times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time (execution tim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entry to a subprogram or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nding of formal to actual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nding of formal parameters to storage lo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arbitrary points during exe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nding of variables to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nding of names to storage location in Sche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define size 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x86-64 uses registers for argum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440" y="1698480"/>
            <a:ext cx="39574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foo(int x, int 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y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716360" y="1844640"/>
            <a:ext cx="414504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rbp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rsp,%r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  %edi, -0x4(%rbp)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  %esi, -0x8(%rbp)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0x8(%rbp),%e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0x4(%rbp),%e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edx,%eax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rbp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q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: invo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698480"/>
            <a:ext cx="403056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a = 3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= foo(a, 256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716360" y="1773360"/>
            <a:ext cx="39578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0x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0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x0 &lt;foo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ebp,%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440" y="1698480"/>
            <a:ext cx="38862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baz(int x, int 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 buf[256]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z = y + 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+= z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x + y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4716360" y="1628640"/>
            <a:ext cx="4248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e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esp,%e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0x108,%e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xc(%ebp),%e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x1(%edx),%e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x8(%ebp),%e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edx,%e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ebp,%e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e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ariable argum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(int n, …)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_start(n, args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_arg(int, args, x)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x = *args++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_arg(int, args, y)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y = *args++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rder of evalu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(read(s), read(s)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(s) =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(s) =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-to-right evaluation: foo(a,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-to-left evaluation: foo(b, a)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// used by C/C+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ascal 68000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83" name="Picture 10" descr="F08"/>
          <p:cNvPicPr/>
          <p:nvPr/>
        </p:nvPicPr>
        <p:blipFill>
          <a:blip r:embed="rId1"/>
          <a:stretch/>
        </p:blipFill>
        <p:spPr>
          <a:xfrm>
            <a:off x="2411280" y="1582560"/>
            <a:ext cx="612144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ynamic Allo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14196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eap-based Alloc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 of storage in which blocks of memory can be allocated and deallocated at arbitrary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they are not allocated in the stack,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fe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objects allocated in the heap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 confined to the subroutin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they are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can be assigned to parameters (or to components of objects accessed via pointers by paramet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can be returned as value of the subroutine/function/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manages the hea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ind the errors in this co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* foo(int si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 z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a[size]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* z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[0] = 666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=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c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&amp;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280" y="248760"/>
            <a:ext cx="578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inding Time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ile time (translation ti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dings chosen by the program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able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able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 statement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sen by the transl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ve location of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sen by the lin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ve location of different object mod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7920" y="0"/>
            <a:ext cx="813420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0956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trategies to manage space in the he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g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rnal fragmen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en space allocated is larger than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ternal fragmen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en allocated blocks are scattered through the heap. Total space available might be more than requested, but no block has the needed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F03"/>
          <p:cNvPicPr/>
          <p:nvPr/>
        </p:nvPicPr>
        <p:blipFill>
          <a:blip r:embed="rId1"/>
          <a:stretch/>
        </p:blipFill>
        <p:spPr>
          <a:xfrm>
            <a:off x="3351240" y="4890960"/>
            <a:ext cx="44766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5960" y="-360"/>
            <a:ext cx="820728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ree Lis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approach to maintain the free memory space is to use a free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strategies to find a block for a give 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fit: use first block in the list large enough to satisfy the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st fit: search the list to find the smallest block that satisfy the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ree list could be organized as an array of free lists where each list in the array contain blocks of the same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dy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bonacci heap (better internal fragment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511812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ers can manage memory themselves with explicit allocation/deallo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garbage collection can be applied automatically by the run-time system to avoid memory leaks and difficult to find dangling 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sadvantage is 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560" y="167652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Scope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ariab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KA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fer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hat can be associated with a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taining the value associated with a variabl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referenc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creating or changing the association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ign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ormal Mode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ore: V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nv: 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no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val: Ex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Env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St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ypicall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l = I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Re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notation = V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V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u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p = 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on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r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ormal Model: Graphical View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581120" y="2738520"/>
            <a:ext cx="1309680" cy="2492280"/>
          </a:xfrm>
          <a:prstGeom prst="rect">
            <a:avLst/>
          </a:prstGeom>
          <a:solidFill>
            <a:srgbClr val="c0fef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b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554120" y="2216160"/>
            <a:ext cx="13352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673440" y="2257560"/>
            <a:ext cx="13352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5689440" y="2744640"/>
            <a:ext cx="1309680" cy="2035440"/>
          </a:xfrm>
          <a:prstGeom prst="rect">
            <a:avLst/>
          </a:prstGeom>
          <a:solidFill>
            <a:srgbClr val="c0fef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657760" y="2238480"/>
            <a:ext cx="13352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693960" y="2776680"/>
            <a:ext cx="1309680" cy="960120"/>
          </a:xfrm>
          <a:prstGeom prst="rect">
            <a:avLst/>
          </a:prstGeom>
          <a:solidFill>
            <a:srgbClr val="c0fef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3687840" y="4056120"/>
            <a:ext cx="1309680" cy="1627200"/>
          </a:xfrm>
          <a:prstGeom prst="rect">
            <a:avLst/>
          </a:prstGeom>
          <a:solidFill>
            <a:srgbClr val="c0fef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4657680" y="3076560"/>
            <a:ext cx="1001880" cy="3715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3"/>
          <p:cNvSpPr/>
          <p:nvPr/>
        </p:nvSpPr>
        <p:spPr>
          <a:xfrm flipV="1">
            <a:off x="4675320" y="3762000"/>
            <a:ext cx="1001520" cy="10126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5732640" y="4998960"/>
            <a:ext cx="1000080" cy="298440"/>
          </a:xfrm>
          <a:prstGeom prst="rect">
            <a:avLst/>
          </a:prstGeom>
          <a:solidFill>
            <a:srgbClr val="fcfeb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 anchorCtr="1">
            <a:normAutofit fontScale="59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b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649760" y="5162400"/>
            <a:ext cx="106380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80640" rIns="80640" tIns="-39240" bIns="-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5745240" y="5634000"/>
            <a:ext cx="965160" cy="6066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4721400" y="5438880"/>
            <a:ext cx="1001520" cy="3715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80640" rIns="8064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cope and Ext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Calibri"/>
                <a:hlinkClick r:id="rId1"/>
              </a:rPr>
              <a:t>sc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textual region of a program (ak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cope blo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n which a binding for a name is a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exten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fe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f a variable describes when in a program's execution a variable ex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scope of a varia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perty of the nam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variable, and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xt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perty of the 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ferencing environ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set of binding active at a given point in a program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ope ru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programming language define the scope of bindings, i.e. the region of program text in which a name binding is a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cope Rules: Examp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Basic: all variables are global and visible every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77: the scope of a local variable is limited to a subroutine; the scope of a global variable is the whole program text unless it is hidden by a local variable declaration with the same variable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l 60, Pascal and Ada: these languages allow nested subroutines definitions and adopt th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losest nested scope rul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slight variations in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280" y="248760"/>
            <a:ext cx="578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inding Time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 Implementation time (i.e. when the compiler or interpreter is writt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on of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umb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Usually determined by the underlying computer, but not always (e.g. Java defines the representation to guarantee portabil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of implementation-specific features preclude port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.g. in Fortran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 expression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x*f(y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function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does not have to be called when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If the function has side effects, different implementations produce different resul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 definition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ternative statement 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ructure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ay storage lay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vs Dynamic Scop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tically scoped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scope of bindings is determined at compile time from the text of the prgo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by almost all but a few programming langu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tuitive to user compared to dynamic sco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ynamically scoped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scope of bindings is determined at ru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in Lisp (early versions), APL, Snobol, and Perl (selective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yped Variab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Calibri"/>
                <a:hlinkClick r:id="rId1"/>
              </a:rPr>
              <a:t>statically-typ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anguages, a variable also has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meaning that only values of a given type can be stored in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Calibri"/>
                <a:hlinkClick r:id="rId2"/>
              </a:rPr>
              <a:t>dynamically-typ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anguages, values, not variables, have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4640" y="4320"/>
            <a:ext cx="8469360" cy="7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Model from course: Fondamenti Programmazione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851600" cy="30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: http://www.di.unipi.it/~paolo/FP/material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: Fra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n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151080" y="4962600"/>
          <a:ext cx="2784600" cy="1449360"/>
        </p:xfrm>
        <a:graphic>
          <a:graphicData uri="http://schemas.openxmlformats.org/drawingml/2006/table">
            <a:tbl>
              <a:tblPr/>
              <a:tblGrid>
                <a:gridCol w="2784600"/>
              </a:tblGrid>
              <a:tr h="725400">
                <a:tc>
                  <a:txBody>
                    <a:bodyPr lIns="81000" rIns="810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(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=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81000" rIns="810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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000" marR="81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431120" y="2774880"/>
          <a:ext cx="1120680" cy="731880"/>
        </p:xfrm>
        <a:graphic>
          <a:graphicData uri="http://schemas.openxmlformats.org/drawingml/2006/table">
            <a:tbl>
              <a:tblPr/>
              <a:tblGrid>
                <a:gridCol w="425520"/>
                <a:gridCol w="695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416720" y="3776760"/>
          <a:ext cx="1120680" cy="731880"/>
        </p:xfrm>
        <a:graphic>
          <a:graphicData uri="http://schemas.openxmlformats.org/drawingml/2006/table">
            <a:tbl>
              <a:tblPr/>
              <a:tblGrid>
                <a:gridCol w="425520"/>
                <a:gridCol w="695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4" name="TextBox 6"/>
          <p:cNvSpPr/>
          <p:nvPr/>
        </p:nvSpPr>
        <p:spPr>
          <a:xfrm>
            <a:off x="6980400" y="2962440"/>
            <a:ext cx="26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7016760" y="401652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6411960" y="3475080"/>
            <a:ext cx="26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yth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 main(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r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=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=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t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063800" y="1619280"/>
            <a:ext cx="7873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o Languag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 main()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rue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:=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else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  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:=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mt.Println(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====================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.go:11: undefined: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o Programming Languag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Calibri"/>
                <a:hlinkClick r:id="rId1"/>
              </a:rPr>
              <a:t>programming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eated at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Calibri"/>
                <a:hlinkClick r:id="rId2"/>
              </a:rPr>
              <a:t>Goog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2007 by Robert Griesemer,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Calibri"/>
                <a:hlinkClick r:id="rId3"/>
              </a:rPr>
              <a:t>Rob Pik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Calibri"/>
                <a:hlinkClick r:id="rId4"/>
              </a:rPr>
              <a:t>Ken Thomp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Calibri"/>
                <a:hlinkClick r:id="rId5"/>
              </a:rPr>
              <a:t>compil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Calibri"/>
                <a:hlinkClick r:id="rId6"/>
              </a:rPr>
              <a:t>statically typ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anguage in the tradition of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Calibri"/>
                <a:hlinkClick r:id="rId7"/>
              </a:rPr>
              <a:t>Alg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Calibri"/>
                <a:hlinkClick r:id="rId8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Calibri"/>
                <a:hlinkClick r:id="rId9"/>
              </a:rPr>
              <a:t>garbage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Calibri"/>
                <a:hlinkClick r:id="rId10"/>
              </a:rPr>
              <a:t>structural ty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Calibri"/>
                <a:hlinkClick r:id="rId11"/>
              </a:rPr>
              <a:t>memory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Calibri"/>
                <a:hlinkClick r:id="rId12"/>
              </a:rPr>
              <a:t>C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style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Calibri"/>
                <a:hlinkClick r:id="rId13"/>
              </a:rPr>
              <a:t>concurrent program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3200" y="0"/>
            <a:ext cx="84708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ested Scope Ru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2840" y="1228320"/>
            <a:ext cx="8055000" cy="53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ost languages any constant, type, variables or subroutines declared within a subroutine are not visible outside the subrou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osest nested scope ru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ame is known in the scope in which it is declared unless it is hidden by a declaration of the same name in a nested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94800" y="0"/>
            <a:ext cx="84488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Scope - Nested Block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pSp>
        <p:nvGrpSpPr>
          <p:cNvPr id="247" name="Group 26"/>
          <p:cNvGrpSpPr/>
          <p:nvPr/>
        </p:nvGrpSpPr>
        <p:grpSpPr>
          <a:xfrm>
            <a:off x="6877080" y="2244600"/>
            <a:ext cx="945000" cy="3200400"/>
            <a:chOff x="6877080" y="2244600"/>
            <a:chExt cx="945000" cy="3200400"/>
          </a:xfrm>
        </p:grpSpPr>
        <p:grpSp>
          <p:nvGrpSpPr>
            <p:cNvPr id="248" name="Group 12"/>
            <p:cNvGrpSpPr/>
            <p:nvPr/>
          </p:nvGrpSpPr>
          <p:grpSpPr>
            <a:xfrm>
              <a:off x="6877080" y="2244600"/>
              <a:ext cx="685800" cy="990000"/>
              <a:chOff x="6877080" y="2244600"/>
              <a:chExt cx="685800" cy="990000"/>
            </a:xfrm>
          </p:grpSpPr>
          <p:sp>
            <p:nvSpPr>
              <p:cNvPr id="249" name="Rectangle 10"/>
              <p:cNvSpPr/>
              <p:nvPr/>
            </p:nvSpPr>
            <p:spPr>
              <a:xfrm>
                <a:off x="6877080" y="2244600"/>
                <a:ext cx="685800" cy="9900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11"/>
              <p:cNvSpPr/>
              <p:nvPr/>
            </p:nvSpPr>
            <p:spPr>
              <a:xfrm>
                <a:off x="6928920" y="2546280"/>
                <a:ext cx="58176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13"/>
            <p:cNvGrpSpPr/>
            <p:nvPr/>
          </p:nvGrpSpPr>
          <p:grpSpPr>
            <a:xfrm>
              <a:off x="6877080" y="4759200"/>
              <a:ext cx="685800" cy="685800"/>
              <a:chOff x="6877080" y="4759200"/>
              <a:chExt cx="685800" cy="685800"/>
            </a:xfrm>
          </p:grpSpPr>
          <p:sp>
            <p:nvSpPr>
              <p:cNvPr id="252" name="Rectangle 14"/>
              <p:cNvSpPr/>
              <p:nvPr/>
            </p:nvSpPr>
            <p:spPr>
              <a:xfrm>
                <a:off x="6877080" y="4759200"/>
                <a:ext cx="685800" cy="6858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6928920" y="4968360"/>
                <a:ext cx="58176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16"/>
            <p:cNvGrpSpPr/>
            <p:nvPr/>
          </p:nvGrpSpPr>
          <p:grpSpPr>
            <a:xfrm>
              <a:off x="6877080" y="4073400"/>
              <a:ext cx="685800" cy="685800"/>
              <a:chOff x="6877080" y="4073400"/>
              <a:chExt cx="685800" cy="685800"/>
            </a:xfrm>
          </p:grpSpPr>
          <p:sp>
            <p:nvSpPr>
              <p:cNvPr id="255" name="Rectangle 17"/>
              <p:cNvSpPr/>
              <p:nvPr/>
            </p:nvSpPr>
            <p:spPr>
              <a:xfrm>
                <a:off x="6877080" y="4073400"/>
                <a:ext cx="685800" cy="6858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Text Box 18"/>
              <p:cNvSpPr/>
              <p:nvPr/>
            </p:nvSpPr>
            <p:spPr>
              <a:xfrm>
                <a:off x="6928920" y="4282560"/>
                <a:ext cx="58176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Group 19"/>
            <p:cNvGrpSpPr/>
            <p:nvPr/>
          </p:nvGrpSpPr>
          <p:grpSpPr>
            <a:xfrm>
              <a:off x="6877080" y="3234960"/>
              <a:ext cx="685800" cy="838080"/>
              <a:chOff x="6877080" y="3234960"/>
              <a:chExt cx="685800" cy="838080"/>
            </a:xfrm>
          </p:grpSpPr>
          <p:sp>
            <p:nvSpPr>
              <p:cNvPr id="258" name="Rectangle 20"/>
              <p:cNvSpPr/>
              <p:nvPr/>
            </p:nvSpPr>
            <p:spPr>
              <a:xfrm>
                <a:off x="6877080" y="3234960"/>
                <a:ext cx="685800" cy="83808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Text Box 21"/>
              <p:cNvSpPr/>
              <p:nvPr/>
            </p:nvSpPr>
            <p:spPr>
              <a:xfrm>
                <a:off x="6928920" y="3490560"/>
                <a:ext cx="58176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60" name="AutoShape 22"/>
            <p:cNvCxnSpPr>
              <a:stCxn id="249" idx="3"/>
              <a:endCxn id="258" idx="3"/>
            </p:cNvCxnSpPr>
            <p:nvPr/>
          </p:nvCxnSpPr>
          <p:spPr>
            <a:xfrm>
              <a:off x="7562880" y="2739960"/>
              <a:ext cx="2160" cy="915120"/>
            </a:xfrm>
            <a:prstGeom prst="curvedConnector5">
              <a:avLst>
                <a:gd name="adj1" fmla="val 14400000"/>
                <a:gd name="adj2" fmla="val 4998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AutoShape 23"/>
            <p:cNvCxnSpPr>
              <a:stCxn id="259" idx="3"/>
              <a:endCxn id="255" idx="3"/>
            </p:cNvCxnSpPr>
            <p:nvPr/>
          </p:nvCxnSpPr>
          <p:spPr>
            <a:xfrm>
              <a:off x="7522560" y="3654360"/>
              <a:ext cx="40680" cy="762480"/>
            </a:xfrm>
            <a:prstGeom prst="curvedConnector5">
              <a:avLst>
                <a:gd name="adj1" fmla="val 675892"/>
                <a:gd name="adj2" fmla="val 49976"/>
                <a:gd name="adj3" fmla="val 67589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AutoShape 24"/>
            <p:cNvCxnSpPr>
              <a:stCxn id="255" idx="3"/>
              <a:endCxn id="253" idx="3"/>
            </p:cNvCxnSpPr>
            <p:nvPr/>
          </p:nvCxnSpPr>
          <p:spPr>
            <a:xfrm flipH="1">
              <a:off x="7522200" y="4415760"/>
              <a:ext cx="40680" cy="716760"/>
            </a:xfrm>
            <a:prstGeom prst="curvedConnector5">
              <a:avLst>
                <a:gd name="adj1" fmla="val -575892"/>
                <a:gd name="adj2" fmla="val 50000"/>
                <a:gd name="adj3" fmla="val -57589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Text Box 25"/>
          <p:cNvSpPr/>
          <p:nvPr/>
        </p:nvSpPr>
        <p:spPr>
          <a:xfrm>
            <a:off x="2054160" y="1916280"/>
            <a:ext cx="345456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/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//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/ 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/ B4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818676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Scope - Nested Subroutines (Pascal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916360" y="1052640"/>
            <a:ext cx="504036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 P1(A1: T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var X: rea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 P2(A2: T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 P3(A3: T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…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body of P3 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…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 body of P2 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dure P4(A4: T4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F1(A5: T5) : T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var X: integ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…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…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 body of F1 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…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…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 body of P4 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…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…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 body of P1 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3117960" y="1671480"/>
            <a:ext cx="3271680" cy="2019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3117960" y="3862440"/>
            <a:ext cx="3271680" cy="223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3270240" y="2038320"/>
            <a:ext cx="2954520" cy="1058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516480" y="4245120"/>
            <a:ext cx="2786040" cy="1163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4280" y="248760"/>
            <a:ext cx="578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inding Time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x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=x +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s: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=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=x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+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ranslation time in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run time in Scheme/JavaScri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of possible values of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implementation time. If x is real it could b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EEE floating point standard (almost always the choi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mplementation of a specific mach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oftware-based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inite precision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d at run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ested Functions: Scala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440" y="12096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b4b16"/>
                </a:solidFill>
                <a:latin typeface="Arial"/>
              </a:rPr>
              <a:t>FilterTest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extends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b4b16"/>
                </a:solidFill>
                <a:latin typeface="Arial"/>
              </a:rPr>
              <a:t>App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filter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xs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b4b16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cb4b16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],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threshold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b4b16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process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ys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b4b16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cb4b16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]):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b4b16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cb4b16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ys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sEmpty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ys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ead 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threshold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ys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ead 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::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process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ys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ail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process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ys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ail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xs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rintln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lter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b4b16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),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95f91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a1a1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4b16"/>
                </a:solidFill>
                <a:latin typeface="Calibri"/>
              </a:rPr>
              <a:t>List</a:t>
            </a:r>
            <a:r>
              <a:rPr b="0" lang="en-US" sz="2400" spc="-1" strike="noStrike">
                <a:solidFill>
                  <a:srgbClr val="93a1a1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195f91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93a1a1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95f91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93a1a1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95f91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93a1a1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95f91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93a1a1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cala Programming Languag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ala is </a:t>
            </a:r>
            <a:r>
              <a:rPr b="0" lang="en-US" sz="2200" spc="-1" strike="noStrike" u="sng">
                <a:solidFill>
                  <a:srgbClr val="ff0033"/>
                </a:solidFill>
                <a:uFillTx/>
                <a:latin typeface="Calibri"/>
                <a:hlinkClick r:id="rId1"/>
              </a:rPr>
              <a:t>object-orient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language evolved from Ja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ala has many features of </a:t>
            </a:r>
            <a:r>
              <a:rPr b="0" lang="en-US" sz="2200" spc="-1" strike="noStrike" u="sng">
                <a:solidFill>
                  <a:srgbClr val="ff0033"/>
                </a:solidFill>
                <a:uFillTx/>
                <a:latin typeface="Calibri"/>
                <a:hlinkClick r:id="rId2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languages like </a:t>
            </a:r>
            <a:r>
              <a:rPr b="0" lang="en-US" sz="2200" spc="-1" strike="noStrike" u="sng">
                <a:solidFill>
                  <a:srgbClr val="ff0033"/>
                </a:solidFill>
                <a:uFillTx/>
                <a:latin typeface="Calibri"/>
                <a:hlinkClick r:id="rId3"/>
              </a:rPr>
              <a:t>Sche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 u="sng">
                <a:solidFill>
                  <a:srgbClr val="ff0033"/>
                </a:solidFill>
                <a:uFillTx/>
                <a:latin typeface="Calibri"/>
                <a:hlinkClick r:id="rId4"/>
              </a:rPr>
              <a:t>Standard M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200" spc="-1" strike="noStrike" u="sng">
                <a:solidFill>
                  <a:srgbClr val="ff0033"/>
                </a:solidFill>
                <a:uFillTx/>
                <a:latin typeface="Calibri"/>
                <a:hlinkClick r:id="rId5"/>
              </a:rPr>
              <a:t>Haskel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inclu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0033"/>
                </a:solidFill>
                <a:uFillTx/>
                <a:latin typeface="Calibri"/>
                <a:hlinkClick r:id="rId6"/>
              </a:rPr>
              <a:t>C</a:t>
            </a:r>
            <a:r>
              <a:rPr b="0" lang="en-US" sz="1900" spc="-1" strike="noStrike" u="sng">
                <a:solidFill>
                  <a:srgbClr val="ff0033"/>
                </a:solidFill>
                <a:uFillTx/>
                <a:latin typeface="Calibri"/>
                <a:hlinkClick r:id="rId7"/>
              </a:rPr>
              <a:t>urry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0033"/>
                </a:solidFill>
                <a:uFillTx/>
                <a:latin typeface="Calibri"/>
                <a:hlinkClick r:id="rId8"/>
              </a:rPr>
              <a:t>type infere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mmutabil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azy evalu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vanced type system suppor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lgebraic data typ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variance and contravari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igher-order typ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onymous typ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fea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perator overloading, optional parameters, named parameters, raw strings, and no checked exception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9200" y="-360"/>
            <a:ext cx="852480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Scope - Nested Subroutines (3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find the frames of surrounding scopes where the desired data is a static link could b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Link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25040" y="1698480"/>
            <a:ext cx="3948120" cy="48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 C begin end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 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042920" y="1989000"/>
            <a:ext cx="3313080" cy="24480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42920" y="4508640"/>
            <a:ext cx="3313080" cy="1044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619280" y="2565360"/>
            <a:ext cx="2665440" cy="1079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66720" y="-360"/>
            <a:ext cx="847728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Scope - Nested Subroutines (4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4889520" y="1752480"/>
            <a:ext cx="4038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routines C and D are declared nested in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 is static parent of C and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 and E are nested i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is static parent of B and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p points to the frame at the top of the stack to access lo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atic link in the frame points to the frame of the static 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6" descr=" chain.pdf                                                      003364D6Macintosh HD                   B8AA18DE:"/>
          <p:cNvPicPr/>
          <p:nvPr/>
        </p:nvPicPr>
        <p:blipFill>
          <a:blip r:embed="rId1"/>
          <a:stretch/>
        </p:blipFill>
        <p:spPr>
          <a:xfrm>
            <a:off x="698400" y="1751040"/>
            <a:ext cx="403884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Chai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74640" y="15019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access non-local obje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atic links form a static chain, which is a linked list of static paren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subroutine at nesting leve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a reference to an object declared in a static parent at the surrounding scope nested at leve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ic links forms a static chain that is traversed to get to the frame containing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iler generates code to make these traversals over frames to reach non-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Chain: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869000" y="1752480"/>
            <a:ext cx="4038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routine A is at nesting level 1 and C at nesting level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C accesses an object of A, 2 static links are traversed to get to A's frame that contains tha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5" descr=" chain.pdf                                                      003364D6Macintosh HD                   B8AA18DE:"/>
          <p:cNvPicPr/>
          <p:nvPr/>
        </p:nvPicPr>
        <p:blipFill>
          <a:blip r:embed="rId1"/>
          <a:stretch/>
        </p:blipFill>
        <p:spPr>
          <a:xfrm>
            <a:off x="677880" y="1792440"/>
            <a:ext cx="40384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9440" y="-8280"/>
            <a:ext cx="849456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tic Scope - Nested Subroutin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420560" y="1727280"/>
            <a:ext cx="2235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x :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//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x : i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/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/ 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x := .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2"/>
          <p:cNvSpPr/>
          <p:nvPr/>
        </p:nvSpPr>
        <p:spPr>
          <a:xfrm>
            <a:off x="1486080" y="1727280"/>
            <a:ext cx="2666880" cy="449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33"/>
          <p:cNvSpPr/>
          <p:nvPr/>
        </p:nvSpPr>
        <p:spPr>
          <a:xfrm>
            <a:off x="1866960" y="2217600"/>
            <a:ext cx="228600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4"/>
          <p:cNvSpPr/>
          <p:nvPr/>
        </p:nvSpPr>
        <p:spPr>
          <a:xfrm>
            <a:off x="2171880" y="2489040"/>
            <a:ext cx="19810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6"/>
          <p:cNvSpPr/>
          <p:nvPr/>
        </p:nvSpPr>
        <p:spPr>
          <a:xfrm>
            <a:off x="2171880" y="3479760"/>
            <a:ext cx="198108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7"/>
          <p:cNvSpPr/>
          <p:nvPr/>
        </p:nvSpPr>
        <p:spPr>
          <a:xfrm>
            <a:off x="2629080" y="3708360"/>
            <a:ext cx="152388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8"/>
          <p:cNvSpPr/>
          <p:nvPr/>
        </p:nvSpPr>
        <p:spPr>
          <a:xfrm>
            <a:off x="1866960" y="4927680"/>
            <a:ext cx="228600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5"/>
          <p:cNvGrpSpPr/>
          <p:nvPr/>
        </p:nvGrpSpPr>
        <p:grpSpPr>
          <a:xfrm>
            <a:off x="4978800" y="1733400"/>
            <a:ext cx="2239920" cy="4647960"/>
            <a:chOff x="4978800" y="1733400"/>
            <a:chExt cx="2239920" cy="4647960"/>
          </a:xfrm>
        </p:grpSpPr>
        <p:grpSp>
          <p:nvGrpSpPr>
            <p:cNvPr id="298" name="Group 3"/>
            <p:cNvGrpSpPr/>
            <p:nvPr/>
          </p:nvGrpSpPr>
          <p:grpSpPr>
            <a:xfrm>
              <a:off x="6273720" y="1733400"/>
              <a:ext cx="685800" cy="685800"/>
              <a:chOff x="6273720" y="1733400"/>
              <a:chExt cx="685800" cy="685800"/>
            </a:xfrm>
          </p:grpSpPr>
          <p:sp>
            <p:nvSpPr>
              <p:cNvPr id="299" name="Rectangle 4"/>
              <p:cNvSpPr/>
              <p:nvPr/>
            </p:nvSpPr>
            <p:spPr>
              <a:xfrm>
                <a:off x="6273720" y="1733400"/>
                <a:ext cx="685800" cy="6858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Text Box 5"/>
              <p:cNvSpPr/>
              <p:nvPr/>
            </p:nvSpPr>
            <p:spPr>
              <a:xfrm>
                <a:off x="6323760" y="1942560"/>
                <a:ext cx="5695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6"/>
            <p:cNvGrpSpPr/>
            <p:nvPr/>
          </p:nvGrpSpPr>
          <p:grpSpPr>
            <a:xfrm>
              <a:off x="6273720" y="5695560"/>
              <a:ext cx="685800" cy="685800"/>
              <a:chOff x="6273720" y="5695560"/>
              <a:chExt cx="685800" cy="685800"/>
            </a:xfrm>
          </p:grpSpPr>
          <p:sp>
            <p:nvSpPr>
              <p:cNvPr id="302" name="Rectangle 7"/>
              <p:cNvSpPr/>
              <p:nvPr/>
            </p:nvSpPr>
            <p:spPr>
              <a:xfrm>
                <a:off x="6273720" y="5695560"/>
                <a:ext cx="685800" cy="6858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Text Box 8"/>
              <p:cNvSpPr/>
              <p:nvPr/>
            </p:nvSpPr>
            <p:spPr>
              <a:xfrm>
                <a:off x="6323760" y="5904720"/>
                <a:ext cx="5695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9"/>
            <p:cNvGrpSpPr/>
            <p:nvPr/>
          </p:nvGrpSpPr>
          <p:grpSpPr>
            <a:xfrm>
              <a:off x="6273720" y="5009760"/>
              <a:ext cx="685800" cy="685800"/>
              <a:chOff x="6273720" y="5009760"/>
              <a:chExt cx="685800" cy="685800"/>
            </a:xfrm>
          </p:grpSpPr>
          <p:sp>
            <p:nvSpPr>
              <p:cNvPr id="305" name="Rectangle 10"/>
              <p:cNvSpPr/>
              <p:nvPr/>
            </p:nvSpPr>
            <p:spPr>
              <a:xfrm>
                <a:off x="6273720" y="5009760"/>
                <a:ext cx="685800" cy="6858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11"/>
              <p:cNvSpPr/>
              <p:nvPr/>
            </p:nvSpPr>
            <p:spPr>
              <a:xfrm>
                <a:off x="6325560" y="5218920"/>
                <a:ext cx="58176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12"/>
            <p:cNvGrpSpPr/>
            <p:nvPr/>
          </p:nvGrpSpPr>
          <p:grpSpPr>
            <a:xfrm>
              <a:off x="6273720" y="4552560"/>
              <a:ext cx="685800" cy="499320"/>
              <a:chOff x="6273720" y="4552560"/>
              <a:chExt cx="685800" cy="499320"/>
            </a:xfrm>
          </p:grpSpPr>
          <p:sp>
            <p:nvSpPr>
              <p:cNvPr id="308" name="Rectangle 13"/>
              <p:cNvSpPr/>
              <p:nvPr/>
            </p:nvSpPr>
            <p:spPr>
              <a:xfrm>
                <a:off x="6273720" y="4552560"/>
                <a:ext cx="685800" cy="4572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Text Box 14"/>
              <p:cNvSpPr/>
              <p:nvPr/>
            </p:nvSpPr>
            <p:spPr>
              <a:xfrm>
                <a:off x="6325560" y="4691880"/>
                <a:ext cx="58176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15"/>
            <p:cNvGrpSpPr/>
            <p:nvPr/>
          </p:nvGrpSpPr>
          <p:grpSpPr>
            <a:xfrm>
              <a:off x="6273720" y="3943080"/>
              <a:ext cx="685800" cy="609480"/>
              <a:chOff x="6273720" y="3943080"/>
              <a:chExt cx="685800" cy="609480"/>
            </a:xfrm>
          </p:grpSpPr>
          <p:sp>
            <p:nvSpPr>
              <p:cNvPr id="311" name="Rectangle 16"/>
              <p:cNvSpPr/>
              <p:nvPr/>
            </p:nvSpPr>
            <p:spPr>
              <a:xfrm>
                <a:off x="6273720" y="3943080"/>
                <a:ext cx="685800" cy="60948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17"/>
              <p:cNvSpPr/>
              <p:nvPr/>
            </p:nvSpPr>
            <p:spPr>
              <a:xfrm>
                <a:off x="6325560" y="4128840"/>
                <a:ext cx="58176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8"/>
            <p:cNvGrpSpPr/>
            <p:nvPr/>
          </p:nvGrpSpPr>
          <p:grpSpPr>
            <a:xfrm>
              <a:off x="6273720" y="3105000"/>
              <a:ext cx="685800" cy="838080"/>
              <a:chOff x="6273720" y="3105000"/>
              <a:chExt cx="685800" cy="838080"/>
            </a:xfrm>
          </p:grpSpPr>
          <p:sp>
            <p:nvSpPr>
              <p:cNvPr id="314" name="Rectangle 19"/>
              <p:cNvSpPr/>
              <p:nvPr/>
            </p:nvSpPr>
            <p:spPr>
              <a:xfrm>
                <a:off x="6273720" y="3105000"/>
                <a:ext cx="685800" cy="83808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Text Box 20"/>
              <p:cNvSpPr/>
              <p:nvPr/>
            </p:nvSpPr>
            <p:spPr>
              <a:xfrm>
                <a:off x="6323760" y="3360600"/>
                <a:ext cx="5695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21"/>
            <p:cNvGrpSpPr/>
            <p:nvPr/>
          </p:nvGrpSpPr>
          <p:grpSpPr>
            <a:xfrm>
              <a:off x="6273720" y="2419200"/>
              <a:ext cx="685800" cy="685800"/>
              <a:chOff x="6273720" y="2419200"/>
              <a:chExt cx="685800" cy="685800"/>
            </a:xfrm>
          </p:grpSpPr>
          <p:sp>
            <p:nvSpPr>
              <p:cNvPr id="317" name="Rectangle 22"/>
              <p:cNvSpPr/>
              <p:nvPr/>
            </p:nvSpPr>
            <p:spPr>
              <a:xfrm>
                <a:off x="6273720" y="2419200"/>
                <a:ext cx="685800" cy="6858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 Box 23"/>
              <p:cNvSpPr/>
              <p:nvPr/>
            </p:nvSpPr>
            <p:spPr>
              <a:xfrm>
                <a:off x="6323760" y="2628360"/>
                <a:ext cx="5695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9" name="AutoShape 24"/>
            <p:cNvCxnSpPr>
              <a:stCxn id="300" idx="1"/>
              <a:endCxn id="302" idx="1"/>
            </p:cNvCxnSpPr>
            <p:nvPr/>
          </p:nvCxnSpPr>
          <p:spPr>
            <a:xfrm flipV="1" rot="10800000">
              <a:off x="6273000" y="2105280"/>
              <a:ext cx="40320" cy="3933000"/>
            </a:xfrm>
            <a:prstGeom prst="curvedConnector5">
              <a:avLst>
                <a:gd name="adj1" fmla="val 3339639"/>
                <a:gd name="adj2" fmla="val 50000"/>
                <a:gd name="adj3" fmla="val 333963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AutoShape 25"/>
            <p:cNvCxnSpPr>
              <a:stCxn id="317" idx="1"/>
              <a:endCxn id="302" idx="1"/>
            </p:cNvCxnSpPr>
            <p:nvPr/>
          </p:nvCxnSpPr>
          <p:spPr>
            <a:xfrm flipH="1" flipV="1" rot="10800000">
              <a:off x="6273360" y="2761560"/>
              <a:ext cx="2160" cy="3277440"/>
            </a:xfrm>
            <a:prstGeom prst="curvedConnector5">
              <a:avLst>
                <a:gd name="adj1" fmla="val -53400000"/>
                <a:gd name="adj2" fmla="val 49994"/>
                <a:gd name="adj3" fmla="val -53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" name="AutoShape 27"/>
            <p:cNvCxnSpPr>
              <a:stCxn id="314" idx="1"/>
              <a:endCxn id="306" idx="1"/>
            </p:cNvCxnSpPr>
            <p:nvPr/>
          </p:nvCxnSpPr>
          <p:spPr>
            <a:xfrm flipH="1" flipV="1" rot="10800000">
              <a:off x="6273360" y="3523680"/>
              <a:ext cx="40320" cy="1859760"/>
            </a:xfrm>
            <a:prstGeom prst="curvedConnector5">
              <a:avLst>
                <a:gd name="adj1" fmla="val -1511711"/>
                <a:gd name="adj2" fmla="val 49990"/>
                <a:gd name="adj3" fmla="val -1511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" name="AutoShape 28"/>
            <p:cNvCxnSpPr>
              <a:stCxn id="312" idx="1"/>
              <a:endCxn id="308" idx="1"/>
            </p:cNvCxnSpPr>
            <p:nvPr/>
          </p:nvCxnSpPr>
          <p:spPr>
            <a:xfrm flipV="1" rot="10800000">
              <a:off x="6273000" y="4291920"/>
              <a:ext cx="40320" cy="489600"/>
            </a:xfrm>
            <a:prstGeom prst="curvedConnector5">
              <a:avLst>
                <a:gd name="adj1" fmla="val 675675"/>
                <a:gd name="adj2" fmla="val 49963"/>
                <a:gd name="adj3" fmla="val 67567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3" name="AutoShape 30"/>
            <p:cNvCxnSpPr>
              <a:stCxn id="309" idx="1"/>
              <a:endCxn id="305" idx="1"/>
            </p:cNvCxnSpPr>
            <p:nvPr/>
          </p:nvCxnSpPr>
          <p:spPr>
            <a:xfrm flipV="1" rot="10800000">
              <a:off x="6273000" y="4855680"/>
              <a:ext cx="40320" cy="497520"/>
            </a:xfrm>
            <a:prstGeom prst="curvedConnector5">
              <a:avLst>
                <a:gd name="adj1" fmla="val 675675"/>
                <a:gd name="adj2" fmla="val 49963"/>
                <a:gd name="adj3" fmla="val 67567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4" name="AutoShape 39"/>
            <p:cNvCxnSpPr>
              <a:stCxn id="299" idx="3"/>
              <a:endCxn id="317" idx="3"/>
            </p:cNvCxnSpPr>
            <p:nvPr/>
          </p:nvCxnSpPr>
          <p:spPr>
            <a:xfrm>
              <a:off x="6959520" y="2075760"/>
              <a:ext cx="2160" cy="6865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5" name="AutoShape 40"/>
            <p:cNvCxnSpPr>
              <a:stCxn id="317" idx="3"/>
              <a:endCxn id="314" idx="3"/>
            </p:cNvCxnSpPr>
            <p:nvPr/>
          </p:nvCxnSpPr>
          <p:spPr>
            <a:xfrm>
              <a:off x="6959520" y="276156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AutoShape 41"/>
            <p:cNvCxnSpPr/>
            <p:nvPr/>
          </p:nvCxnSpPr>
          <p:spPr>
            <a:xfrm>
              <a:off x="6959520" y="356220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7" name="AutoShape 42"/>
            <p:cNvCxnSpPr>
              <a:stCxn id="312" idx="3"/>
              <a:endCxn id="308" idx="3"/>
            </p:cNvCxnSpPr>
            <p:nvPr/>
          </p:nvCxnSpPr>
          <p:spPr>
            <a:xfrm>
              <a:off x="6919920" y="4292280"/>
              <a:ext cx="40320" cy="489600"/>
            </a:xfrm>
            <a:prstGeom prst="curvedConnector5">
              <a:avLst>
                <a:gd name="adj1" fmla="val 675675"/>
                <a:gd name="adj2" fmla="val 49963"/>
                <a:gd name="adj3" fmla="val 67567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8" name="AutoShape 43"/>
            <p:cNvCxnSpPr>
              <a:stCxn id="305" idx="3"/>
              <a:endCxn id="302" idx="3"/>
            </p:cNvCxnSpPr>
            <p:nvPr/>
          </p:nvCxnSpPr>
          <p:spPr>
            <a:xfrm>
              <a:off x="6959520" y="5352480"/>
              <a:ext cx="2160" cy="6865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9" name="AutoShape 44"/>
            <p:cNvCxnSpPr>
              <a:stCxn id="308" idx="3"/>
              <a:endCxn id="305" idx="3"/>
            </p:cNvCxnSpPr>
            <p:nvPr/>
          </p:nvCxnSpPr>
          <p:spPr>
            <a:xfrm>
              <a:off x="6959520" y="4781160"/>
              <a:ext cx="2160" cy="572400"/>
            </a:xfrm>
            <a:prstGeom prst="curvedConnector5">
              <a:avLst>
                <a:gd name="adj1" fmla="val 14400000"/>
                <a:gd name="adj2" fmla="val 49968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0" name="TextBox 43"/>
          <p:cNvSpPr/>
          <p:nvPr/>
        </p:nvSpPr>
        <p:spPr>
          <a:xfrm>
            <a:off x="6270480" y="3175920"/>
            <a:ext cx="689040" cy="21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AutoShape 30"/>
          <p:cNvCxnSpPr/>
          <p:nvPr/>
        </p:nvCxnSpPr>
        <p:spPr>
          <a:xfrm flipV="1" rot="10800000">
            <a:off x="6250680" y="5439960"/>
            <a:ext cx="40680" cy="497520"/>
          </a:xfrm>
          <a:prstGeom prst="curvedConnector5">
            <a:avLst>
              <a:gd name="adj1" fmla="val 675892"/>
              <a:gd name="adj2" fmla="val 49963"/>
              <a:gd name="adj3" fmla="val 67589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TextBox 3"/>
          <p:cNvSpPr/>
          <p:nvPr/>
        </p:nvSpPr>
        <p:spPr>
          <a:xfrm>
            <a:off x="4808520" y="172872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47"/>
          <p:cNvSpPr/>
          <p:nvPr/>
        </p:nvSpPr>
        <p:spPr>
          <a:xfrm>
            <a:off x="7216920" y="1736640"/>
            <a:ext cx="18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48"/>
          <p:cNvSpPr/>
          <p:nvPr/>
        </p:nvSpPr>
        <p:spPr>
          <a:xfrm>
            <a:off x="6280200" y="5752440"/>
            <a:ext cx="687240" cy="21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1533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os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rst Class function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"/>
          <p:cNvSpPr/>
          <p:nvPr/>
        </p:nvSpPr>
        <p:spPr>
          <a:xfrm>
            <a:off x="7302600" y="5805360"/>
            <a:ext cx="1406520" cy="524160"/>
          </a:xfrm>
          <a:prstGeom prst="rect">
            <a:avLst/>
          </a:prstGeom>
          <a:solidFill>
            <a:srgbClr val="e7e7e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8000" y="-30600"/>
            <a:ext cx="840564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osures i.e. Functional resul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126800" y="1727280"/>
            <a:ext cx="22356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x :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//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x : i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/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// 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x := .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return P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2"/>
          <p:cNvSpPr/>
          <p:nvPr/>
        </p:nvSpPr>
        <p:spPr>
          <a:xfrm>
            <a:off x="1192320" y="1727280"/>
            <a:ext cx="2666880" cy="449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33"/>
          <p:cNvSpPr/>
          <p:nvPr/>
        </p:nvSpPr>
        <p:spPr>
          <a:xfrm>
            <a:off x="1573200" y="2217600"/>
            <a:ext cx="228600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4"/>
          <p:cNvSpPr/>
          <p:nvPr/>
        </p:nvSpPr>
        <p:spPr>
          <a:xfrm>
            <a:off x="1878120" y="2489040"/>
            <a:ext cx="19810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6"/>
          <p:cNvSpPr/>
          <p:nvPr/>
        </p:nvSpPr>
        <p:spPr>
          <a:xfrm>
            <a:off x="1878120" y="3479760"/>
            <a:ext cx="198108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37"/>
          <p:cNvSpPr/>
          <p:nvPr/>
        </p:nvSpPr>
        <p:spPr>
          <a:xfrm>
            <a:off x="2335320" y="3708360"/>
            <a:ext cx="152388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38"/>
          <p:cNvSpPr/>
          <p:nvPr/>
        </p:nvSpPr>
        <p:spPr>
          <a:xfrm>
            <a:off x="1573200" y="4927680"/>
            <a:ext cx="228600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45"/>
          <p:cNvGrpSpPr/>
          <p:nvPr/>
        </p:nvGrpSpPr>
        <p:grpSpPr>
          <a:xfrm>
            <a:off x="4685040" y="1733400"/>
            <a:ext cx="2239920" cy="4647960"/>
            <a:chOff x="4685040" y="1733400"/>
            <a:chExt cx="2239920" cy="4647960"/>
          </a:xfrm>
        </p:grpSpPr>
        <p:grpSp>
          <p:nvGrpSpPr>
            <p:cNvPr id="347" name="Group 3"/>
            <p:cNvGrpSpPr/>
            <p:nvPr/>
          </p:nvGrpSpPr>
          <p:grpSpPr>
            <a:xfrm>
              <a:off x="5979960" y="1733400"/>
              <a:ext cx="685800" cy="685800"/>
              <a:chOff x="5979960" y="1733400"/>
              <a:chExt cx="685800" cy="685800"/>
            </a:xfrm>
          </p:grpSpPr>
          <p:sp>
            <p:nvSpPr>
              <p:cNvPr id="348" name="Rectangle 4"/>
              <p:cNvSpPr/>
              <p:nvPr/>
            </p:nvSpPr>
            <p:spPr>
              <a:xfrm>
                <a:off x="5979960" y="1733400"/>
                <a:ext cx="685800" cy="6858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Text Box 5"/>
              <p:cNvSpPr/>
              <p:nvPr/>
            </p:nvSpPr>
            <p:spPr>
              <a:xfrm>
                <a:off x="6030000" y="1942560"/>
                <a:ext cx="5695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6"/>
            <p:cNvGrpSpPr/>
            <p:nvPr/>
          </p:nvGrpSpPr>
          <p:grpSpPr>
            <a:xfrm>
              <a:off x="5979960" y="5695560"/>
              <a:ext cx="685800" cy="685800"/>
              <a:chOff x="5979960" y="5695560"/>
              <a:chExt cx="685800" cy="685800"/>
            </a:xfrm>
          </p:grpSpPr>
          <p:sp>
            <p:nvSpPr>
              <p:cNvPr id="351" name="Rectangle 7"/>
              <p:cNvSpPr/>
              <p:nvPr/>
            </p:nvSpPr>
            <p:spPr>
              <a:xfrm>
                <a:off x="5979960" y="5695560"/>
                <a:ext cx="685800" cy="6858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6030000" y="5904720"/>
                <a:ext cx="5695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9"/>
            <p:cNvGrpSpPr/>
            <p:nvPr/>
          </p:nvGrpSpPr>
          <p:grpSpPr>
            <a:xfrm>
              <a:off x="5979960" y="5009760"/>
              <a:ext cx="685800" cy="685800"/>
              <a:chOff x="5979960" y="5009760"/>
              <a:chExt cx="685800" cy="685800"/>
            </a:xfrm>
          </p:grpSpPr>
          <p:sp>
            <p:nvSpPr>
              <p:cNvPr id="354" name="Rectangle 10"/>
              <p:cNvSpPr/>
              <p:nvPr/>
            </p:nvSpPr>
            <p:spPr>
              <a:xfrm>
                <a:off x="5979960" y="5009760"/>
                <a:ext cx="685800" cy="6858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11"/>
              <p:cNvSpPr/>
              <p:nvPr/>
            </p:nvSpPr>
            <p:spPr>
              <a:xfrm>
                <a:off x="6031800" y="5218920"/>
                <a:ext cx="58176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5979960" y="4552560"/>
              <a:ext cx="685800" cy="499320"/>
              <a:chOff x="5979960" y="4552560"/>
              <a:chExt cx="685800" cy="499320"/>
            </a:xfrm>
          </p:grpSpPr>
          <p:sp>
            <p:nvSpPr>
              <p:cNvPr id="357" name="Rectangle 13"/>
              <p:cNvSpPr/>
              <p:nvPr/>
            </p:nvSpPr>
            <p:spPr>
              <a:xfrm>
                <a:off x="5979960" y="4552560"/>
                <a:ext cx="685800" cy="4572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Text Box 14"/>
              <p:cNvSpPr/>
              <p:nvPr/>
            </p:nvSpPr>
            <p:spPr>
              <a:xfrm>
                <a:off x="6031800" y="4691880"/>
                <a:ext cx="58176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15"/>
            <p:cNvGrpSpPr/>
            <p:nvPr/>
          </p:nvGrpSpPr>
          <p:grpSpPr>
            <a:xfrm>
              <a:off x="5979960" y="3943080"/>
              <a:ext cx="685800" cy="609480"/>
              <a:chOff x="5979960" y="3943080"/>
              <a:chExt cx="685800" cy="609480"/>
            </a:xfrm>
          </p:grpSpPr>
          <p:sp>
            <p:nvSpPr>
              <p:cNvPr id="360" name="Rectangle 16"/>
              <p:cNvSpPr/>
              <p:nvPr/>
            </p:nvSpPr>
            <p:spPr>
              <a:xfrm>
                <a:off x="5979960" y="3943080"/>
                <a:ext cx="685800" cy="60948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17"/>
              <p:cNvSpPr/>
              <p:nvPr/>
            </p:nvSpPr>
            <p:spPr>
              <a:xfrm>
                <a:off x="6031800" y="4128840"/>
                <a:ext cx="58176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18"/>
            <p:cNvGrpSpPr/>
            <p:nvPr/>
          </p:nvGrpSpPr>
          <p:grpSpPr>
            <a:xfrm>
              <a:off x="5979960" y="3105000"/>
              <a:ext cx="685800" cy="838080"/>
              <a:chOff x="5979960" y="3105000"/>
              <a:chExt cx="685800" cy="838080"/>
            </a:xfrm>
          </p:grpSpPr>
          <p:sp>
            <p:nvSpPr>
              <p:cNvPr id="363" name="Rectangle 19"/>
              <p:cNvSpPr/>
              <p:nvPr/>
            </p:nvSpPr>
            <p:spPr>
              <a:xfrm>
                <a:off x="5979960" y="3105000"/>
                <a:ext cx="685800" cy="83808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Text Box 20"/>
              <p:cNvSpPr/>
              <p:nvPr/>
            </p:nvSpPr>
            <p:spPr>
              <a:xfrm>
                <a:off x="6030000" y="3360600"/>
                <a:ext cx="5695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21"/>
            <p:cNvGrpSpPr/>
            <p:nvPr/>
          </p:nvGrpSpPr>
          <p:grpSpPr>
            <a:xfrm>
              <a:off x="5979960" y="2419200"/>
              <a:ext cx="685800" cy="685800"/>
              <a:chOff x="5979960" y="2419200"/>
              <a:chExt cx="685800" cy="685800"/>
            </a:xfrm>
          </p:grpSpPr>
          <p:sp>
            <p:nvSpPr>
              <p:cNvPr id="366" name="Rectangle 22"/>
              <p:cNvSpPr/>
              <p:nvPr/>
            </p:nvSpPr>
            <p:spPr>
              <a:xfrm>
                <a:off x="5979960" y="2419200"/>
                <a:ext cx="685800" cy="685800"/>
              </a:xfrm>
              <a:prstGeom prst="rect">
                <a:avLst/>
              </a:prstGeom>
              <a:solidFill>
                <a:srgbClr val="feff7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Text Box 23"/>
              <p:cNvSpPr/>
              <p:nvPr/>
            </p:nvSpPr>
            <p:spPr>
              <a:xfrm>
                <a:off x="6030000" y="2628360"/>
                <a:ext cx="5695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8" name="AutoShape 24"/>
            <p:cNvCxnSpPr>
              <a:stCxn id="349" idx="1"/>
              <a:endCxn id="351" idx="1"/>
            </p:cNvCxnSpPr>
            <p:nvPr/>
          </p:nvCxnSpPr>
          <p:spPr>
            <a:xfrm flipV="1" rot="10800000">
              <a:off x="5979240" y="2105280"/>
              <a:ext cx="40320" cy="3933000"/>
            </a:xfrm>
            <a:prstGeom prst="curvedConnector5">
              <a:avLst>
                <a:gd name="adj1" fmla="val 3339639"/>
                <a:gd name="adj2" fmla="val 50000"/>
                <a:gd name="adj3" fmla="val 333963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AutoShape 25"/>
            <p:cNvCxnSpPr>
              <a:stCxn id="366" idx="1"/>
              <a:endCxn id="351" idx="1"/>
            </p:cNvCxnSpPr>
            <p:nvPr/>
          </p:nvCxnSpPr>
          <p:spPr>
            <a:xfrm flipH="1" flipV="1" rot="10800000">
              <a:off x="5979600" y="2761560"/>
              <a:ext cx="2160" cy="3277440"/>
            </a:xfrm>
            <a:prstGeom prst="curvedConnector5">
              <a:avLst>
                <a:gd name="adj1" fmla="val -53400000"/>
                <a:gd name="adj2" fmla="val 49994"/>
                <a:gd name="adj3" fmla="val -53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0" name="AutoShape 27"/>
            <p:cNvCxnSpPr>
              <a:stCxn id="363" idx="1"/>
              <a:endCxn id="355" idx="1"/>
            </p:cNvCxnSpPr>
            <p:nvPr/>
          </p:nvCxnSpPr>
          <p:spPr>
            <a:xfrm flipH="1" flipV="1" rot="10800000">
              <a:off x="5979600" y="3523680"/>
              <a:ext cx="40320" cy="1859760"/>
            </a:xfrm>
            <a:prstGeom prst="curvedConnector5">
              <a:avLst>
                <a:gd name="adj1" fmla="val -1511711"/>
                <a:gd name="adj2" fmla="val 49990"/>
                <a:gd name="adj3" fmla="val -1511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1" name="AutoShape 28"/>
            <p:cNvCxnSpPr>
              <a:stCxn id="361" idx="1"/>
              <a:endCxn id="357" idx="1"/>
            </p:cNvCxnSpPr>
            <p:nvPr/>
          </p:nvCxnSpPr>
          <p:spPr>
            <a:xfrm flipV="1" rot="10800000">
              <a:off x="5979240" y="4291920"/>
              <a:ext cx="40320" cy="489600"/>
            </a:xfrm>
            <a:prstGeom prst="curvedConnector5">
              <a:avLst>
                <a:gd name="adj1" fmla="val 675675"/>
                <a:gd name="adj2" fmla="val 49963"/>
                <a:gd name="adj3" fmla="val 67567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AutoShape 30"/>
            <p:cNvCxnSpPr>
              <a:stCxn id="358" idx="1"/>
              <a:endCxn id="354" idx="1"/>
            </p:cNvCxnSpPr>
            <p:nvPr/>
          </p:nvCxnSpPr>
          <p:spPr>
            <a:xfrm flipV="1" rot="10800000">
              <a:off x="5979240" y="4855680"/>
              <a:ext cx="40320" cy="497520"/>
            </a:xfrm>
            <a:prstGeom prst="curvedConnector5">
              <a:avLst>
                <a:gd name="adj1" fmla="val 675675"/>
                <a:gd name="adj2" fmla="val 49963"/>
                <a:gd name="adj3" fmla="val 67567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AutoShape 39"/>
            <p:cNvCxnSpPr>
              <a:stCxn id="348" idx="3"/>
              <a:endCxn id="366" idx="3"/>
            </p:cNvCxnSpPr>
            <p:nvPr/>
          </p:nvCxnSpPr>
          <p:spPr>
            <a:xfrm>
              <a:off x="6665760" y="2075760"/>
              <a:ext cx="2160" cy="6865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AutoShape 40"/>
            <p:cNvCxnSpPr>
              <a:stCxn id="366" idx="3"/>
              <a:endCxn id="363" idx="3"/>
            </p:cNvCxnSpPr>
            <p:nvPr/>
          </p:nvCxnSpPr>
          <p:spPr>
            <a:xfrm>
              <a:off x="6665760" y="276156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AutoShape 41"/>
            <p:cNvCxnSpPr/>
            <p:nvPr/>
          </p:nvCxnSpPr>
          <p:spPr>
            <a:xfrm>
              <a:off x="6665760" y="356220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AutoShape 42"/>
            <p:cNvCxnSpPr>
              <a:stCxn id="361" idx="3"/>
              <a:endCxn id="357" idx="3"/>
            </p:cNvCxnSpPr>
            <p:nvPr/>
          </p:nvCxnSpPr>
          <p:spPr>
            <a:xfrm>
              <a:off x="6626160" y="4292280"/>
              <a:ext cx="40320" cy="489600"/>
            </a:xfrm>
            <a:prstGeom prst="curvedConnector5">
              <a:avLst>
                <a:gd name="adj1" fmla="val 675675"/>
                <a:gd name="adj2" fmla="val 49963"/>
                <a:gd name="adj3" fmla="val 67567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7" name="AutoShape 43"/>
            <p:cNvCxnSpPr>
              <a:stCxn id="354" idx="3"/>
              <a:endCxn id="351" idx="3"/>
            </p:cNvCxnSpPr>
            <p:nvPr/>
          </p:nvCxnSpPr>
          <p:spPr>
            <a:xfrm>
              <a:off x="6665760" y="5352480"/>
              <a:ext cx="2160" cy="6865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44"/>
            <p:cNvCxnSpPr>
              <a:stCxn id="357" idx="3"/>
              <a:endCxn id="354" idx="3"/>
            </p:cNvCxnSpPr>
            <p:nvPr/>
          </p:nvCxnSpPr>
          <p:spPr>
            <a:xfrm>
              <a:off x="6665760" y="4781160"/>
              <a:ext cx="2160" cy="572400"/>
            </a:xfrm>
            <a:prstGeom prst="curvedConnector5">
              <a:avLst>
                <a:gd name="adj1" fmla="val 14400000"/>
                <a:gd name="adj2" fmla="val 49968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79" name="TextBox 42"/>
          <p:cNvSpPr/>
          <p:nvPr/>
        </p:nvSpPr>
        <p:spPr>
          <a:xfrm>
            <a:off x="8045280" y="5901840"/>
            <a:ext cx="378000" cy="3052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43"/>
          <p:cNvSpPr/>
          <p:nvPr/>
        </p:nvSpPr>
        <p:spPr>
          <a:xfrm>
            <a:off x="7229520" y="3392280"/>
            <a:ext cx="377640" cy="3052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44"/>
          <p:cNvSpPr/>
          <p:nvPr/>
        </p:nvSpPr>
        <p:spPr>
          <a:xfrm>
            <a:off x="7623000" y="5901840"/>
            <a:ext cx="378000" cy="3052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640" y="2160"/>
            <a:ext cx="8469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 bar[] = {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0}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* foo =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c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* x = foo +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* y = bar +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r = bar +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* g = {1, 2, 3, 0}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 +=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[2]= 4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Lexical Environment of Function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cal allows pass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of nested lexical scope, even passing functions in Pascal requires passing the enclosing lexical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K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ownward clo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osures in Pyth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def makeAdd(x)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def add(y)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   return y + x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turn ad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&gt; add3 = makeAdd(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&gt; add10 = makeAdd(1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&gt; add3(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&gt; add10(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1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ython Clos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ef makePair(x, y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ef getx(): return 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ef gety(): return 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ef setx(v): return x = 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ef sety(v): return y = 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return {‘x’: getx, ‘y’: gety, ‘setx’: setx, ‘sety’: sety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&gt; p = makePair(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&gt; p[‘x’]()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# kind of p.x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ut </a:t>
            </a:r>
            <a:r>
              <a:rPr b="0" lang="is-IS" sz="4400" spc="-1" strike="noStrike">
                <a:solidFill>
                  <a:srgbClr val="000000"/>
                </a:solidFill>
                <a:latin typeface="Tw Cen MT Condensed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&gt; p[‘setx’](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&gt; p[‘x’]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as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ny assignment to a name implicitl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clares that name to be lo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except when a global declaration is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ython 3 introduces declaration 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nonlo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ef makePair(x, 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ef setx(v): nonlocal x = 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is-IS" sz="28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ntax Suga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Empty(): 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ef makePair(x, y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ef getx(): return 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ef gety(): return 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ef setx(v): return x = 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ef sety(v): return y = 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r = Empty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tattr(r, ‘x’, get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tattr(r, ‘y’, ge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tattr(r, ‘X’, set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tattr(r, ‘Y’, ge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return 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&gt; p = makePair(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&gt; p.x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osures as Objec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def makePair(x, y)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nonlocal x, 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def get(arg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if arg == </a:t>
            </a:r>
            <a:r>
              <a:rPr b="0" lang="ja-JP" sz="2600" spc="-1" strike="noStrike">
                <a:solidFill>
                  <a:srgbClr val="000000"/>
                </a:solidFill>
                <a:latin typeface="Lucida Console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x</a:t>
            </a:r>
            <a:r>
              <a:rPr b="0" lang="ja-JP" sz="2600" spc="-1" strike="noStrike">
                <a:solidFill>
                  <a:srgbClr val="000000"/>
                </a:solidFill>
                <a:latin typeface="Lucida Console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turn 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elif arg == </a:t>
            </a:r>
            <a:r>
              <a:rPr b="0" lang="ja-JP" sz="2600" spc="-1" strike="noStrike">
                <a:solidFill>
                  <a:srgbClr val="000000"/>
                </a:solidFill>
                <a:latin typeface="Lucida Console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y</a:t>
            </a:r>
            <a:r>
              <a:rPr b="0" lang="ja-JP" sz="2600" spc="-1" strike="noStrike">
                <a:solidFill>
                  <a:srgbClr val="000000"/>
                </a:solidFill>
                <a:latin typeface="Lucida Console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turn 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turn g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p = makePair(3, 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p(</a:t>
            </a:r>
            <a:r>
              <a:rPr b="0" lang="ja-JP" sz="2600" spc="-1" strike="noStrike">
                <a:solidFill>
                  <a:srgbClr val="000000"/>
                </a:solidFill>
                <a:latin typeface="Lucida Console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x</a:t>
            </a:r>
            <a:r>
              <a:rPr b="0" lang="ja-JP" sz="2600" spc="-1" strike="noStrike">
                <a:solidFill>
                  <a:srgbClr val="000000"/>
                </a:solidFill>
                <a:latin typeface="Lucida Console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)  -&gt; 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P(</a:t>
            </a:r>
            <a:r>
              <a:rPr b="0" lang="ja-JP" sz="2600" spc="-1" strike="noStrike">
                <a:solidFill>
                  <a:srgbClr val="000000"/>
                </a:solidFill>
                <a:latin typeface="Lucida Console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y</a:t>
            </a:r>
            <a:r>
              <a:rPr b="0" lang="ja-JP" sz="2600" spc="-1" strike="noStrike">
                <a:solidFill>
                  <a:srgbClr val="000000"/>
                </a:solidFill>
                <a:latin typeface="Lucida Console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)  -&gt; 5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8356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osures as Objec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440" y="1304640"/>
            <a:ext cx="8110440" cy="52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defun pair (x 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lambda (o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if (= op </a:t>
            </a:r>
            <a:r>
              <a:rPr b="0" lang="ja-JP" sz="2800" spc="-1" strike="noStrike">
                <a:solidFill>
                  <a:srgbClr val="000000"/>
                </a:solidFill>
                <a:latin typeface="Lucida Console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irst) x y)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setq p (pair 3 4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(lambda (op)…) . ((x . 3) (y . 4)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p </a:t>
            </a:r>
            <a:r>
              <a:rPr b="0" lang="ja-JP" sz="2800" spc="-1" strike="noStrike">
                <a:solidFill>
                  <a:srgbClr val="000000"/>
                </a:solidFill>
                <a:latin typeface="Lucida Console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irst)  ;; like p.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ava Nested Classes as Closures (?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lass Outer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inal int x; 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// must be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lass Inner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//int x; 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// cannot be bound in fo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oid foo() { x;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oid bar(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nner i = new Inner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.foo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osures in JavaScrip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xical variables declar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akePair(x, y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getx() { return x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etx(v) { x = v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{'x': getx, 'setx': setx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 = makePair(3, 4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.x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.setx(7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.x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nguages supporting Clos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los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p, Scheme, Haskell and functional langu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Script, Perl, Ruby, Python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ta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clos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ython 2 (cannot assign captured variab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++11 (must have same extent of captured variab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8 (captures only immutable variab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4280" y="248760"/>
            <a:ext cx="578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inding Time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erties of operator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compilation time (depending on the type of the operands because of overloa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declared integer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ans one 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declared real means something 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an also be overloaded by the programm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C++ it is possible to specify that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perates on string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ring operator +(string&amp; a, string&amp; b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a.append(b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++11: downward clos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ctor&lt;string&gt; find_if(vector&lt;string&gt;&amp; v, Pred pred)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ctor&lt;string&gt; result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(auto&amp; x: v) {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(pred(x)) results.push_back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turn result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ctor&lt;string&gt; name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mes.push_back(“Pippo”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ing name = “Beppe”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d_if(names, [&amp;] (string&amp; x) { return x == name; }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legates in C++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440" y="133812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truct MailBox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oid receive(string&amp; msg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r (auto&amp; n: notifi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n(msg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ector&lt;Fun&gt; notifier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truct Phone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oid notify(string&amp; msg) </a:t>
            </a:r>
            <a:r>
              <a:rPr b="0" lang="is-IS" sz="20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Lucida San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ilbox mailbox;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// instance of Mailb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hone myphone;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// instance of Ph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ilbox.subscribe([&amp;] (string&amp; msg) { myphone.notify(msg); }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# Delegat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egate void Notify(string msg);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// Delegate decla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MailBox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id receive(string msg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ifiers(msg)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// invokes all notif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id subscribe(Notify n) { notifiers += n;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vate Notify notifiers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// Multiclass deleg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Phone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id alert(string msg) </a:t>
            </a: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var myPhone = new Phone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mailbox.subscribe(new Notify(myphone.alert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mbda as Delegat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tring msg) =&gt; myphone.alert(msg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as anonymous deleg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gate(string msg) { return myphone.alert(msg);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# Ev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5440" y="16984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 kind of deleg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eg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ventHandler(object sender, RoutedEventArgs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tt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ven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Handler Click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Click(s, args)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{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(s, arg);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ounded Rectangular Callout 3"/>
          <p:cNvSpPr/>
          <p:nvPr/>
        </p:nvSpPr>
        <p:spPr>
          <a:xfrm>
            <a:off x="6280200" y="2503440"/>
            <a:ext cx="2863800" cy="1027080"/>
          </a:xfrm>
          <a:prstGeom prst="wedgeRoundRectCallout">
            <a:avLst>
              <a:gd name="adj1" fmla="val -92282"/>
              <a:gd name="adj2" fmla="val 69842"/>
              <a:gd name="adj3" fmla="val 16667"/>
            </a:avLst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allable from inside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pplication Co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30080" y="1698480"/>
            <a:ext cx="841392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te void Button_Click(object sender, RoutedEventArgs 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ton b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utton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.Add(b)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/ place it on 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Click += new EventHandler(this.Button_Click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ses  of Clos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backs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 event hand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ynchronous programm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JAX call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ntax for Lambda Express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yth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mbda params : exp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va (only final variables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params) -&gt; exp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#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params) =&gt; exp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vaScri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params) =&gt; exp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HP (not first class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ction (params) use(vars) { body 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++11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capture list](params) -&gt; ret { body 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&amp;] captures all automatic variables by refer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unctional Languag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unction (lambda (params) body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n params =&gt; 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j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n [params] ep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irst Class Clos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class closures requires solving the Funarg probl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s://en.wikipedia.org/wiki/Funarg_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discussed in the pap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. Moses (1970) The function of FUNCTION in Lis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portal.acm.org/citation.cfm?id=10934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 full list of languages supporting full closures, se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s://en.wikipedia.org/wiki/First-class_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inding Time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98120"/>
            <a:ext cx="7772400" cy="501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f the most important and subtle differences between languages involve differences in bindi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ade off is between efficient execution and flex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efficiency is a consideration (Fortran, C) languages are designed so that as many bindings as possible are performed during trans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flexibility is the prime determiner, bindings are delayed until execution time so that they may be made data 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600" y="1695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Dynamic scope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ynamic Scop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early Lisp systems variables were bound dynamically rather than stat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language with dynamic binding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ree variabl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procedure get their values fro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environment in which the procedure is calle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environment in which the procedure is def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4640" y="0"/>
            <a:ext cx="846936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sp: implementation of dynamic scop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efun foo (y) (if (= y 0) (print x) (foo (1- y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efun bar (x) (foo x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bar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efun eval (e en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f (symbolp e) (env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etq x 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efun zed (f) (let (x 8) (bar 3) (f 0)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zed (function foo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 = ((x1 . v1) (x2. v2) …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(y . 0) (y. 1) (y . 2) (y . 3) (x . 3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x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y 0 1 2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er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x = 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 f { return $x;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 stat { my $x = 1; return f();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t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c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stat()."\n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 dyn { local $x = 1; return f();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t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namic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dyn()."\n"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ynamic Scope Problem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74280" y="1332000"/>
            <a:ext cx="8278920" cy="50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define (sum-powers a b 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define (nth-power 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expt x n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sum nth-power a b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sum is defined as fol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define (sum functor a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if (&gt; a 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+ (functor 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(sum functor (1+ a) b))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 (sum-powers 0 3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74640" y="-360"/>
            <a:ext cx="8469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ynamic scope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ree variabl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th-powe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get whatever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d when sum called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sum does not rebi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only definition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till the one from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um-po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74640" y="4680"/>
            <a:ext cx="846936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changing variable nam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74280" y="1297080"/>
            <a:ext cx="8094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define (sum-powers a b 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define (nth-power 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expt x n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sum nth-power a b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define (sum functor a 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if (&gt; a 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+ (functor 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(sum functor (1+ a) n))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ynamic scope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f we had used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definition of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th-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ee variable would refer to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ird argument, which is not what we int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namic binding violates the principle that a procedure should be regarded as a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 box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ing the name of a parameter throughout a procedure’s definition should not change the procedur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ynamic scope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800" y="1236600"/>
            <a:ext cx="7772400" cy="53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statically bound language, the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-pow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gram must contain the definition of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nth-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a local proced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nth-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resents a common pattern of usage, its definition must be repeated as an internal definition in many contex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7T21:50:24Z</dcterms:created>
  <dc:creator>Giuseppe Attardi</dc:creator>
  <dc:description/>
  <cp:keywords/>
  <dc:language>en-US</dc:language>
  <cp:lastModifiedBy>Giuseppe Attardi</cp:lastModifiedBy>
  <cp:lastPrinted>2000-10-06T17:06:07Z</cp:lastPrinted>
  <dcterms:modified xsi:type="dcterms:W3CDTF">2017-03-06T09:56:53Z</dcterms:modified>
  <cp:revision>442</cp:revision>
  <dc:subject/>
  <dc:title>Name, Scope, Bind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ickunas@cs.uiuc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cs321\lecture\Spring2000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